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75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3600" indent="-2030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ST: Status of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 -&gt; K</a:t>
            </a:r>
            <a:r>
              <a:rPr b="0" lang="en-GB" sz="4400" spc="-1" strike="noStrike" baseline="33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am Cas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tholic University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viser: Dr. Franz Kl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icle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843520" y="2047680"/>
            <a:ext cx="350856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ons, pions, and kaons are identified by beta and momentum c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aon region may overlap with misidentified protons and p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d timing information may also give false kaon identification at low moment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4720" y="2111400"/>
            <a:ext cx="531828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ssing Mass Plots: Finding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3120" y="4379760"/>
            <a:ext cx="4325760" cy="267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4680" y="1700280"/>
            <a:ext cx="431640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3142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ssing Mass Plots: Finding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4840" y="1473120"/>
            <a:ext cx="4238280" cy="288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46600" y="1473120"/>
            <a:ext cx="4316400" cy="2887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4440" y="4419720"/>
            <a:ext cx="4227480" cy="286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57760" y="4389480"/>
            <a:ext cx="434664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760" y="4241880"/>
            <a:ext cx="4959360" cy="322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95800" y="893880"/>
            <a:ext cx="4984920" cy="321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874800"/>
            <a:ext cx="5048280" cy="325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2960" y="196920"/>
            <a:ext cx="916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mentum plotted against Missing Mass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13520" y="4408560"/>
            <a:ext cx="4625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the lower energy regions, a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gnal is visible when missing mass is plot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re is additionally a peculiar sloping line passing through the signal region, which most likely indicates misidentified ka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00" y="196920"/>
            <a:ext cx="949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mentum plotted against Missing Mass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68160"/>
            <a:ext cx="4987800" cy="314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4840" y="2101680"/>
            <a:ext cx="2101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28960"/>
            <a:ext cx="4978440" cy="357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02200" y="706320"/>
            <a:ext cx="4748400" cy="311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452600" y="3603600"/>
            <a:ext cx="3781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54280" y="1424160"/>
            <a:ext cx="1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41720" y="4811760"/>
            <a:ext cx="1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7520" y="1492200"/>
            <a:ext cx="167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95440" y="3298680"/>
            <a:ext cx="108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295200" y="1020600"/>
            <a:ext cx="20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213080"/>
            <a:ext cx="453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gnal fades for higher photon energies, while the sloping line rem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35400" y="192240"/>
            <a:ext cx="5715000" cy="4755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7600" y="1266840"/>
            <a:ext cx="4808520" cy="3425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00" y="295200"/>
            <a:ext cx="991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arization Observable E: Comparison to Model Predictions (2.478 GeV B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040" y="5273640"/>
            <a:ext cx="895500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ears to show some level of agreement with SAID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igher co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ins are more suspect due to high background contamin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full asymmetry, P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Times New Roman"/>
              </a:rPr>
              <a:t>targ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 0.8, P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 0.85 are taken as averag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1880" y="333360"/>
            <a:ext cx="892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arization Observable E: More Energy ranges (2.478 GeV B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5086440" cy="3279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920" y="4056120"/>
            <a:ext cx="5014800" cy="350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35400" y="785880"/>
            <a:ext cx="4945320" cy="3260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086440" y="4035600"/>
            <a:ext cx="499428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 and Further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results are extremely preliminary, but first measurements of E indicate some qualitative agreement with SAID PWA in more trustworthy regions (those not dominated by heavy backgrou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corrections need to be added without losing all the lamb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ground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ments of other polarization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