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8124-D4BF-4EF4-88E3-5B6EEB8EF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DB37-E642-49F8-8A72-14678C6E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EBEC8-5B77-48FF-B8D8-334D1A8F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1C9B5-847C-480F-BEF4-128A0CEF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68665-5C9E-47F6-B495-47937B05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93980-C9A8-4A79-AAFA-5021FFDF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20990-11FD-4A0F-904D-BBE500D2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1E3C2-9061-4AE9-9CDC-746123F8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7847F-01C1-48DE-83F1-C6F6655E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EF228-7150-494E-8BE8-6E21C90B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A059B-0216-4241-AC4C-F80BD8D54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D89B0-A12A-4049-85FE-C5427668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0C41-5A56-4FC9-84E8-0ED75B03C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A17D8-F8A5-4DB2-9A8A-B8B90ADD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D3EC5-905C-4BCC-8FC1-797462A9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9E344-5C2D-4F19-9A6E-EEA8E2C8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D3058-437A-486B-8DBA-98F5DAEB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E6297-ADDE-4B44-8F96-47914BF0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8AC38-F233-4124-B1E1-5AC47DAB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F5113-5875-4618-A673-0245927C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C3426-C768-4EC2-AD0A-B9B513DC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2D955-DE28-41C0-A704-DFF8D641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35137-B6EA-4369-810A-2E21BBE98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1074-8448-4CD1-BD2B-D87769305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D54AD-78B5-4FB6-BA26-CCDF65DE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951D9-54E1-4CB7-8EF6-672940169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5640C-9F3E-468E-9CD8-5B612079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F8F78-6B5F-47B8-AB4D-0C391DEC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FE4D6-51AD-43F4-A499-2DEA9698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237A3-BFE9-4567-A93C-786B61FB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7DF7D-C652-4FE2-BB99-9B9AE395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B8B28-9931-4306-96CE-C6EAD22E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A4103-4240-48DA-9751-786750FC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35625-D4BA-4210-B91E-C0C1EAB7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5EEF-4572-4D1A-88C7-3D474117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443FC-E672-4EC3-BBAA-A773A53A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AA009-4128-4F35-92D4-A08292107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E2817-384A-49BE-83BF-41689AA17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C0623-08BF-429B-B460-1B789B78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49350-4732-4327-A975-F939CDBF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F0212-D943-4E4A-BFF1-6320CB9E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6E8240-377A-4912-8C4C-986C3410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40EF1-608C-4C61-B150-5CE91729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36AFE-39AF-4A41-8581-E288FCE3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2F79A6-C4D8-47E4-B164-CADDD7E3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C9EB-A188-4F7A-AD5C-6CE93DA7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5C093C-376D-4D9D-A1CE-AC75B2B5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E5DCAB-11C2-4557-BE66-93D5D619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A28EC0-7FB2-411A-8169-84504C47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3D4AB6-1DEB-4B02-B2B4-680B6F67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20876D-C39C-4F98-84BE-DFB639D9F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8F91-ACED-4E2A-88A1-95D0EDDC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5F48-4EE9-4E12-8916-FC3853DE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394E-4615-451F-9AE7-1735189B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092F-0ECB-4E86-9D4A-61A6E519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6D20-2B40-41B7-90C5-9F061CEA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E3F9-E3CF-4D57-B08E-3448D852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EB8A-FA22-42C9-89C6-56CA8AB4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CD4D-8CD5-4C69-AEE9-AC857B57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3E63-5E93-466C-B950-2571E147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7BAB-7277-418B-90DE-995E328DA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B267-D9DF-4CD8-AFF0-C309E3A0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46C18-4292-46E0-8EB3-8BB308739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D00C8-94F0-4D97-857F-FD479654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7A1E9-0031-4A90-8E96-984AA359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A839E-B5C3-4C11-A9B7-9C131C88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1A57F-1196-47BB-A985-4195CB4B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C311-28AD-4580-A62F-1D8DB1CC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D9A81-4B25-41A8-9C3F-2B2E08F0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EF541-F69F-46AF-8A37-139A866B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5A1C6-2D0B-4AEB-8411-C53568F3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037DE-AE4D-4804-92B0-D6827997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DFFAC-41B0-4D9F-90E8-DD9FF2D9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BD191-8169-4BBA-9C45-6F135BE56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5B8A1-4833-46E1-8933-A9813D35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495F8-51D4-4F64-9EBA-571352E98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939E7-6B00-418B-9BA6-D86F8B83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CA292-CA0A-4F23-A1F0-693AACDE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6E0F-91C4-4796-8E18-416939FB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88F4B-C1AA-4749-A8D4-97EE196C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0AAFC-BC7E-4E0E-A40F-D6D3AFD8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ED3E5-88FE-48C8-B3D4-EC1937C3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9BE3A-1A0F-4729-AFDC-AD1AA5C1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C6900-D9CF-4ED7-8B6B-1BCA4F78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2026A-5C79-478B-BC67-78FA0C68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B9061-9E5E-42BF-B6CF-368E1436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6234E-7C6C-45E4-9028-071B4E820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6822E-8F43-4C3E-BAE7-0A893A4CC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8B2E7-F9C4-47E7-A268-0A9F66CFF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F6FF-16F5-4490-9795-050017DF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B7286-B30A-4C0E-A4B4-DD0E9479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7D29A-2128-46E3-8D4F-AB3EFD24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9E507-A25F-44F7-A48B-66F5CFAC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AE5CB-5576-495B-B967-A45D0CA0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C788D-17CF-4F7E-94F0-FD5ECF7B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BCF85-3D7F-47E9-8854-4323871E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DF954-39DF-4500-AD40-FD401FE1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8B947-8A39-4918-9513-0BD8A167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FAFF1-5373-48AD-93F1-47A06F8E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0DA9D-867C-4A46-B590-13AF858C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8198-9349-4C5F-94C5-D4B6A8E7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E4226-1A90-42A7-9D3C-E26EC3878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B30CE-4D17-4D35-8163-C4234FD34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CE3CE-476F-4AB7-B1AE-2D69D1D3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07B62-E127-4D2B-9257-092987D5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29226-8733-4ADC-B449-348DD7F5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243AA-6159-4C25-8B92-3229BE16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BEBCE-3FB1-4BB5-BD23-682D143D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99588-3513-4ED3-AB8B-D5EE975E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2197B-4D8F-40AF-9008-41E71C31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CE3F6-5875-471E-B872-34C82F19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3CA2-21EC-48D0-ACDB-A07742A3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0385C-F9DF-48D0-92A2-A93C7FB3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024C4-6D63-4B49-8220-BD9649BF8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D39DC-1F83-42DA-BB77-90651AC40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543C8-1E69-4A23-B97D-D0D5ED2E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49897-CB92-4646-8997-54BF8E5D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CC1EE-A6CD-4A0A-A058-350003B2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FEE39-E80A-48EA-BBB3-DA9E970D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3461F-D049-48D8-A36F-2B8AE5CA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579D0-7BBD-4E40-911D-6BE4C37F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9691F-BAC6-49ED-A989-E0AAAAA3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3E60-9C21-496B-88BF-2C25DE03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C8AE5-AD57-4153-B1D0-2552E6A5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223E5-3F49-4484-A60E-41BCE6FA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1206A-0BEB-407C-9D2F-AEDF4952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75E47-4F3E-4CC0-8AB9-CDEBD22B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E2EC5-9E0B-4D8B-99DE-976EA4CB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80AF7-7E89-413F-9615-B7CB2E1E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2CEF4-BA09-4B2D-9F24-8F563F20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3E366-DF07-4B36-849D-9E7396FD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24E54-F35F-4E77-B261-510AB73B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81C20-288A-4A1C-827D-E2A29BAD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194C-0888-4D95-9A9B-601FF7BA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B76D4-3139-41D5-AC30-AA7474B7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1981D-F3FA-496D-B4AE-FF99FA83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0EE2C-499F-4240-ADF7-0C23F419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A7AEA-3D5F-427D-8DB9-46150CEA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8BF8B-3E18-4C17-967F-A48E2AE9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CC022-00B5-48E4-AEF2-A26926283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BF1A5-BC27-4714-AECF-A3B343282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88BD1-37F1-4097-95AE-72DABC34F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7E81B-9CBA-4051-A404-ED236AA2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0EB32-F724-46D0-87FE-6410081A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Sept. 26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Hadron Spectroscopy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Mac Mest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Sept. 26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Hadron Spectroscopy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F222-4C6A-44F8-B38C-FD82DF116BE9}" type="slidenum">
              <a:rPr b="0" lang="en-US" sz="1200" spc="-1" strike="noStrike">
                <a:solidFill>
                  <a:srgbClr val="898989"/>
                </a:solidFill>
                <a:latin typeface="Palatin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Sept. 26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Hadron Spectroscopy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D734-D7B1-4A63-AE0C-C2157DBF3D45}" type="slidenum">
              <a:rPr b="0" lang="en-US" sz="1200" spc="-1" strike="noStrike">
                <a:solidFill>
                  <a:srgbClr val="898989"/>
                </a:solidFill>
                <a:latin typeface="Palatin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Sept. 26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Hadron Spectroscopy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EA96-EFF5-4882-89C2-CAE1B44FEC57}" type="slidenum">
              <a:rPr b="0" lang="en-US" sz="1200" spc="-1" strike="noStrike">
                <a:solidFill>
                  <a:srgbClr val="898989"/>
                </a:solidFill>
                <a:latin typeface="Palatin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Sept. 26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Hadron Spectroscopy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70D5-65D6-4BBF-A5FC-D858F01BC501}" type="slidenum">
              <a:rPr b="0" lang="en-US" sz="1200" spc="-1" strike="noStrike">
                <a:solidFill>
                  <a:srgbClr val="898989"/>
                </a:solidFill>
                <a:latin typeface="Palatin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Sept. 26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Hadron Spectroscopy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Mac Mestayer </a:t>
            </a:r>
            <a:fld id="{CC1C5357-9640-4587-B3B8-3F25682D1C06}" type="slidenum">
              <a:rPr b="0" lang="en-US" sz="1200" spc="-1" strike="noStrike">
                <a:solidFill>
                  <a:srgbClr val="898989"/>
                </a:solidFill>
                <a:latin typeface="Palatin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Sept. 26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Hadron Spectroscopy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E4B2-06C0-49EE-AFE4-3D00649A83DF}" type="slidenum">
              <a:rPr b="0" lang="en-US" sz="1200" spc="-1" strike="noStrike">
                <a:solidFill>
                  <a:srgbClr val="898989"/>
                </a:solidFill>
                <a:latin typeface="Palatin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Sept. 26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Hadron Spectroscopy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B16D-6A57-4248-9EBE-123D9F1AAD71}" type="slidenum">
              <a:rPr b="0" lang="en-US" sz="1200" spc="-1" strike="noStrike">
                <a:solidFill>
                  <a:srgbClr val="898989"/>
                </a:solidFill>
                <a:latin typeface="Palatin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Sept. 26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Hadron Spectroscopy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6D7B-8C15-453D-BF5A-1F1882CE297C}" type="slidenum">
              <a:rPr b="0" lang="en-US" sz="1200" spc="-1" strike="noStrike">
                <a:solidFill>
                  <a:srgbClr val="898989"/>
                </a:solidFill>
                <a:latin typeface="Palatin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Sept. 26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Hadron Spectroscopy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1C2B-0953-46FA-957C-60463EC61B4F}" type="slidenum">
              <a:rPr b="0" lang="en-US" sz="1200" spc="-1" strike="noStrike">
                <a:solidFill>
                  <a:srgbClr val="898989"/>
                </a:solidFill>
                <a:latin typeface="Palatin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Sept. 26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Hadron Spectroscopy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CE5E-7C4B-473B-8047-D6D649E814CB}" type="slidenum">
              <a:rPr b="0" lang="en-US" sz="1200" spc="-1" strike="noStrike">
                <a:solidFill>
                  <a:srgbClr val="898989"/>
                </a:solidFill>
                <a:latin typeface="Palatin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Sept. 26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Hadron Spectroscopy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C200-D522-47B6-92EA-B5DB59CFEA7F}" type="slidenum">
              <a:rPr b="0" lang="en-US" sz="1200" spc="-1" strike="noStrike">
                <a:solidFill>
                  <a:srgbClr val="898989"/>
                </a:solidFill>
                <a:latin typeface="Palatin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Exclusive Production Ratios</a:t>
            </a:r>
            <a:br>
              <a:rPr sz="3600"/>
            </a:b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Mac Mestayer, Kijun Park, Christian Weis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at are we measuring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ratios of cross-sections for 2-body (baryon-meson) final states: e.g.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n   vs.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alatino Linotype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  vs. 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.e. ratios of processes in which only one        pair is produced :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at can we learn by measuring them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kinematic domain in which the dominant  interacting currents are quarks, not hadron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how the color flux-tube is broken.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Sept. 26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Hadron Spectroscopy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Mac Mestayer </a:t>
            </a:r>
            <a:fld id="{11985892-91EF-403C-AB21-A48D9AC77BEA}" type="slidenum">
              <a:rPr b="0" lang="en-US" sz="1200" spc="-1" strike="noStrike">
                <a:solidFill>
                  <a:srgbClr val="898989"/>
                </a:solidFill>
                <a:latin typeface="Palatin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21"/>
          <p:cNvGrpSpPr/>
          <p:nvPr/>
        </p:nvGrpSpPr>
        <p:grpSpPr>
          <a:xfrm>
            <a:off x="2788920" y="3286080"/>
            <a:ext cx="567720" cy="459720"/>
            <a:chOff x="2788920" y="3286080"/>
            <a:chExt cx="567720" cy="459720"/>
          </a:xfrm>
        </p:grpSpPr>
        <p:sp>
          <p:nvSpPr>
            <p:cNvPr id="498" name="Straight Connector 14"/>
            <p:cNvSpPr/>
            <p:nvPr/>
          </p:nvSpPr>
          <p:spPr>
            <a:xfrm>
              <a:off x="3052800" y="3392280"/>
              <a:ext cx="142920" cy="1440"/>
            </a:xfrm>
            <a:prstGeom prst="line">
              <a:avLst/>
            </a:prstGeom>
            <a:ln w="381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Box 23"/>
            <p:cNvSpPr/>
            <p:nvPr/>
          </p:nvSpPr>
          <p:spPr>
            <a:xfrm>
              <a:off x="2788920" y="3286080"/>
              <a:ext cx="56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Palatino"/>
                </a:rPr>
                <a:t>u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Group 27"/>
          <p:cNvGrpSpPr/>
          <p:nvPr/>
        </p:nvGrpSpPr>
        <p:grpSpPr>
          <a:xfrm>
            <a:off x="3391560" y="3286080"/>
            <a:ext cx="555480" cy="459720"/>
            <a:chOff x="3391560" y="3286080"/>
            <a:chExt cx="555480" cy="459720"/>
          </a:xfrm>
        </p:grpSpPr>
        <p:sp>
          <p:nvSpPr>
            <p:cNvPr id="501" name="Straight Connector 12"/>
            <p:cNvSpPr/>
            <p:nvPr/>
          </p:nvSpPr>
          <p:spPr>
            <a:xfrm>
              <a:off x="3676680" y="3341160"/>
              <a:ext cx="142920" cy="1440"/>
            </a:xfrm>
            <a:prstGeom prst="line">
              <a:avLst/>
            </a:prstGeom>
            <a:ln w="381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Box 29"/>
            <p:cNvSpPr/>
            <p:nvPr/>
          </p:nvSpPr>
          <p:spPr>
            <a:xfrm>
              <a:off x="3391560" y="3286080"/>
              <a:ext cx="5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Palatino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Group 30"/>
          <p:cNvGrpSpPr/>
          <p:nvPr/>
        </p:nvGrpSpPr>
        <p:grpSpPr>
          <a:xfrm>
            <a:off x="3984120" y="3271680"/>
            <a:ext cx="455040" cy="459720"/>
            <a:chOff x="3984120" y="3271680"/>
            <a:chExt cx="455040" cy="459720"/>
          </a:xfrm>
        </p:grpSpPr>
        <p:sp>
          <p:nvSpPr>
            <p:cNvPr id="504" name="Straight Connector 10"/>
            <p:cNvSpPr/>
            <p:nvPr/>
          </p:nvSpPr>
          <p:spPr>
            <a:xfrm>
              <a:off x="4179960" y="3384360"/>
              <a:ext cx="141120" cy="1440"/>
            </a:xfrm>
            <a:prstGeom prst="line">
              <a:avLst/>
            </a:prstGeom>
            <a:ln w="381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Box 32"/>
            <p:cNvSpPr/>
            <p:nvPr/>
          </p:nvSpPr>
          <p:spPr>
            <a:xfrm>
              <a:off x="3984120" y="327168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Palatino"/>
                </a:rPr>
                <a:t>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Group 19"/>
          <p:cNvGrpSpPr/>
          <p:nvPr/>
        </p:nvGrpSpPr>
        <p:grpSpPr>
          <a:xfrm>
            <a:off x="6790680" y="2911320"/>
            <a:ext cx="555480" cy="459720"/>
            <a:chOff x="6790680" y="2911320"/>
            <a:chExt cx="555480" cy="459720"/>
          </a:xfrm>
        </p:grpSpPr>
        <p:sp>
          <p:nvSpPr>
            <p:cNvPr id="507" name="Straight Connector 17"/>
            <p:cNvSpPr/>
            <p:nvPr/>
          </p:nvSpPr>
          <p:spPr>
            <a:xfrm>
              <a:off x="7051680" y="2971440"/>
              <a:ext cx="142920" cy="1440"/>
            </a:xfrm>
            <a:prstGeom prst="line">
              <a:avLst/>
            </a:prstGeom>
            <a:ln w="381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Box 29"/>
            <p:cNvSpPr/>
            <p:nvPr/>
          </p:nvSpPr>
          <p:spPr>
            <a:xfrm>
              <a:off x="6790680" y="2911320"/>
              <a:ext cx="5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Palatino"/>
                </a:rPr>
                <a:t>q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AutoShape 2"/>
          <p:cNvSpPr/>
          <p:nvPr/>
        </p:nvSpPr>
        <p:spPr>
          <a:xfrm>
            <a:off x="149400" y="-2147760"/>
            <a:ext cx="476244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4"/>
          <p:cNvSpPr/>
          <p:nvPr/>
        </p:nvSpPr>
        <p:spPr>
          <a:xfrm>
            <a:off x="149400" y="-2147760"/>
            <a:ext cx="476244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6"/>
          <p:cNvSpPr/>
          <p:nvPr/>
        </p:nvSpPr>
        <p:spPr>
          <a:xfrm>
            <a:off x="149400" y="-2147760"/>
            <a:ext cx="476244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8"/>
          <p:cNvSpPr/>
          <p:nvPr/>
        </p:nvSpPr>
        <p:spPr>
          <a:xfrm>
            <a:off x="149400" y="-2147760"/>
            <a:ext cx="476244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9" descr=""/>
          <p:cNvPicPr/>
          <p:nvPr/>
        </p:nvPicPr>
        <p:blipFill>
          <a:blip r:embed="rId1"/>
          <a:stretch/>
        </p:blipFill>
        <p:spPr>
          <a:xfrm>
            <a:off x="1714680" y="5716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667" name="Date Placeholder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Sept. 26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Mac Mestayer </a:t>
            </a:r>
            <a:fld id="{F5365D31-6341-464A-887D-7D19BDF48DD3}" type="slidenum">
              <a:rPr b="0" lang="en-US" sz="1200" spc="-1" strike="noStrike">
                <a:solidFill>
                  <a:srgbClr val="898989"/>
                </a:solidFill>
                <a:latin typeface="Palatin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ooter Placeholder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Hadron Spectroscopy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1" descr=""/>
          <p:cNvPicPr/>
          <p:nvPr/>
        </p:nvPicPr>
        <p:blipFill>
          <a:blip r:embed="rId1"/>
          <a:stretch/>
        </p:blipFill>
        <p:spPr>
          <a:xfrm>
            <a:off x="1714680" y="5716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671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Sept. 26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Mac Mestayer </a:t>
            </a:r>
            <a:fld id="{AAE41841-D919-41EF-8190-AB6DE584FF9F}" type="slidenum">
              <a:rPr b="0" lang="en-US" sz="1200" spc="-1" strike="noStrike">
                <a:solidFill>
                  <a:srgbClr val="898989"/>
                </a:solidFill>
                <a:latin typeface="Palatin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Hadron Spectroscopy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1" descr=""/>
          <p:cNvPicPr/>
          <p:nvPr/>
        </p:nvPicPr>
        <p:blipFill>
          <a:blip r:embed="rId1"/>
          <a:stretch/>
        </p:blipFill>
        <p:spPr>
          <a:xfrm>
            <a:off x="1714680" y="5716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675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Sept. 26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Mac Mestayer </a:t>
            </a:r>
            <a:fld id="{3418BDF9-07DE-4077-A761-60152DD172E2}" type="slidenum">
              <a:rPr b="0" lang="en-US" sz="1200" spc="-1" strike="noStrike">
                <a:solidFill>
                  <a:srgbClr val="898989"/>
                </a:solidFill>
                <a:latin typeface="Palatin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Hadron Spectroscopy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1" descr=""/>
          <p:cNvPicPr/>
          <p:nvPr/>
        </p:nvPicPr>
        <p:blipFill>
          <a:blip r:embed="rId1"/>
          <a:stretch/>
        </p:blipFill>
        <p:spPr>
          <a:xfrm>
            <a:off x="1714680" y="5716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679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Sept. 26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Mac Mestayer </a:t>
            </a:r>
            <a:fld id="{683DD6FF-19FC-45CA-899F-AAD83524BCFD}" type="slidenum">
              <a:rPr b="0" lang="en-US" sz="1200" spc="-1" strike="noStrike">
                <a:solidFill>
                  <a:srgbClr val="898989"/>
                </a:solidFill>
                <a:latin typeface="Palatin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Hadron Spectroscopy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2" descr=""/>
          <p:cNvPicPr/>
          <p:nvPr/>
        </p:nvPicPr>
        <p:blipFill>
          <a:blip r:embed="rId1"/>
          <a:stretch/>
        </p:blipFill>
        <p:spPr>
          <a:xfrm>
            <a:off x="1714680" y="5716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683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Sept. 26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Mac Mestayer </a:t>
            </a:r>
            <a:fld id="{A2C4D855-88F8-4988-B7C2-9F2E5980F38D}" type="slidenum">
              <a:rPr b="0" lang="en-US" sz="1200" spc="-1" strike="noStrike">
                <a:solidFill>
                  <a:srgbClr val="898989"/>
                </a:solidFill>
                <a:latin typeface="Palatin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Hadron Spectroscopy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2" descr=""/>
          <p:cNvPicPr/>
          <p:nvPr/>
        </p:nvPicPr>
        <p:blipFill>
          <a:blip r:embed="rId1"/>
          <a:stretch/>
        </p:blipFill>
        <p:spPr>
          <a:xfrm>
            <a:off x="1714680" y="5716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68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Sept. 26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Mac Mestayer </a:t>
            </a:r>
            <a:fld id="{13B0C544-7612-4B55-AFFB-958E5809C4C6}" type="slidenum">
              <a:rPr b="0" lang="en-US" sz="1200" spc="-1" strike="noStrike">
                <a:solidFill>
                  <a:srgbClr val="898989"/>
                </a:solidFill>
                <a:latin typeface="Palatin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Hadron Spectroscopy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Yield ratios show simple phenomenology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tatistics look good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nalysis work to be done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rad. corrections, phase-space  factors,  background subtraction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ecide on binning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Develop event generator for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Palatino Linotype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-channel exchange + LUND-type mod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9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Sept. 26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Hadron Spectroscopy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Mac Mestayer </a:t>
            </a:r>
            <a:fld id="{D756463A-2A63-4AF4-AD77-BC5457F7D6F7}" type="slidenum">
              <a:rPr b="0" lang="en-US" sz="1200" spc="-1" strike="noStrike">
                <a:solidFill>
                  <a:srgbClr val="898989"/>
                </a:solidFill>
                <a:latin typeface="Palatin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Sept. 26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Hadron Spectroscopy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Mac Mestayer </a:t>
            </a:r>
            <a:fld id="{882DB145-67D5-4258-8F69-9CA3CA28BDE6}" type="slidenum">
              <a:rPr b="0" lang="en-US" sz="1200" spc="-1" strike="noStrike">
                <a:solidFill>
                  <a:srgbClr val="898989"/>
                </a:solidFill>
                <a:latin typeface="Palatin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714680" y="571680"/>
            <a:ext cx="5715000" cy="5715000"/>
          </a:xfrm>
          <a:prstGeom prst="rect">
            <a:avLst/>
          </a:prstGeom>
          <a:ln w="0">
            <a:noFill/>
          </a:ln>
        </p:spPr>
      </p:pic>
      <p:grpSp>
        <p:nvGrpSpPr>
          <p:cNvPr id="699" name="Group 24"/>
          <p:cNvGrpSpPr/>
          <p:nvPr/>
        </p:nvGrpSpPr>
        <p:grpSpPr>
          <a:xfrm>
            <a:off x="2262240" y="2028600"/>
            <a:ext cx="6446880" cy="3458880"/>
            <a:chOff x="2262240" y="2028600"/>
            <a:chExt cx="6446880" cy="3458880"/>
          </a:xfrm>
        </p:grpSpPr>
        <p:sp>
          <p:nvSpPr>
            <p:cNvPr id="700" name="Straight Connector 8"/>
            <p:cNvSpPr/>
            <p:nvPr/>
          </p:nvSpPr>
          <p:spPr>
            <a:xfrm flipV="1">
              <a:off x="2276280" y="2028600"/>
              <a:ext cx="4867560" cy="4680"/>
            </a:xfrm>
            <a:prstGeom prst="line">
              <a:avLst/>
            </a:prstGeom>
            <a:ln w="28440">
              <a:solidFill>
                <a:srgbClr val="0000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Straight Connector 9"/>
            <p:cNvSpPr/>
            <p:nvPr/>
          </p:nvSpPr>
          <p:spPr>
            <a:xfrm flipV="1">
              <a:off x="2284200" y="3763440"/>
              <a:ext cx="4867560" cy="4680"/>
            </a:xfrm>
            <a:prstGeom prst="line">
              <a:avLst/>
            </a:prstGeom>
            <a:ln w="28440">
              <a:solidFill>
                <a:srgbClr val="0000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Straight Connector 10"/>
            <p:cNvSpPr/>
            <p:nvPr/>
          </p:nvSpPr>
          <p:spPr>
            <a:xfrm flipV="1">
              <a:off x="2262240" y="5482800"/>
              <a:ext cx="4867560" cy="4680"/>
            </a:xfrm>
            <a:prstGeom prst="line">
              <a:avLst/>
            </a:prstGeom>
            <a:ln w="28440">
              <a:solidFill>
                <a:srgbClr val="0000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3" name="Straight Arrow Connector 11"/>
            <p:cNvCxnSpPr/>
            <p:nvPr/>
          </p:nvCxnSpPr>
          <p:spPr>
            <a:xfrm flipH="1" flipV="1">
              <a:off x="7212960" y="2104920"/>
              <a:ext cx="508680" cy="6382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4" name="Straight Arrow Connector 12"/>
            <p:cNvCxnSpPr/>
            <p:nvPr/>
          </p:nvCxnSpPr>
          <p:spPr>
            <a:xfrm flipH="1">
              <a:off x="7257960" y="3425760"/>
              <a:ext cx="435600" cy="2908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5" name="Straight Arrow Connector 13"/>
            <p:cNvCxnSpPr/>
            <p:nvPr/>
          </p:nvCxnSpPr>
          <p:spPr>
            <a:xfrm flipH="1">
              <a:off x="7243200" y="4238280"/>
              <a:ext cx="594360" cy="11754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706" name="TextBox 14"/>
            <p:cNvSpPr/>
            <p:nvPr/>
          </p:nvSpPr>
          <p:spPr>
            <a:xfrm>
              <a:off x="7823520" y="2801880"/>
              <a:ext cx="885600" cy="161856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und model value:         0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TextBox 23"/>
          <p:cNvSpPr/>
          <p:nvPr/>
        </p:nvSpPr>
        <p:spPr>
          <a:xfrm>
            <a:off x="203040" y="1058760"/>
            <a:ext cx="1509840" cy="222840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ed yield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= 1.9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Sept. 26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Hadron Spectroscopy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Mac Mestayer </a:t>
            </a:r>
            <a:fld id="{694F8052-C3AD-4194-A275-A3549A2CBBF6}" type="slidenum">
              <a:rPr b="0" lang="en-US" sz="1200" spc="-1" strike="noStrike">
                <a:solidFill>
                  <a:srgbClr val="898989"/>
                </a:solidFill>
                <a:latin typeface="Palatin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2" descr=""/>
          <p:cNvPicPr/>
          <p:nvPr/>
        </p:nvPicPr>
        <p:blipFill>
          <a:blip r:embed="rId1"/>
          <a:stretch/>
        </p:blipFill>
        <p:spPr>
          <a:xfrm>
            <a:off x="1714680" y="5716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712" name="TextBox 13"/>
          <p:cNvSpPr/>
          <p:nvPr/>
        </p:nvSpPr>
        <p:spPr>
          <a:xfrm>
            <a:off x="203040" y="1058760"/>
            <a:ext cx="1509840" cy="19234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ed yield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= 2 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Group 24"/>
          <p:cNvGrpSpPr/>
          <p:nvPr/>
        </p:nvGrpSpPr>
        <p:grpSpPr>
          <a:xfrm>
            <a:off x="2262240" y="2028600"/>
            <a:ext cx="6446880" cy="3458880"/>
            <a:chOff x="2262240" y="2028600"/>
            <a:chExt cx="6446880" cy="3458880"/>
          </a:xfrm>
        </p:grpSpPr>
        <p:sp>
          <p:nvSpPr>
            <p:cNvPr id="714" name="Straight Connector 8"/>
            <p:cNvSpPr/>
            <p:nvPr/>
          </p:nvSpPr>
          <p:spPr>
            <a:xfrm flipV="1">
              <a:off x="2276280" y="2028600"/>
              <a:ext cx="4867560" cy="4680"/>
            </a:xfrm>
            <a:prstGeom prst="line">
              <a:avLst/>
            </a:prstGeom>
            <a:ln w="28440">
              <a:solidFill>
                <a:srgbClr val="0000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Straight Connector 11"/>
            <p:cNvSpPr/>
            <p:nvPr/>
          </p:nvSpPr>
          <p:spPr>
            <a:xfrm flipV="1">
              <a:off x="2284200" y="3763440"/>
              <a:ext cx="4867560" cy="4680"/>
            </a:xfrm>
            <a:prstGeom prst="line">
              <a:avLst/>
            </a:prstGeom>
            <a:ln w="28440">
              <a:solidFill>
                <a:srgbClr val="0000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Straight Connector 12"/>
            <p:cNvSpPr/>
            <p:nvPr/>
          </p:nvSpPr>
          <p:spPr>
            <a:xfrm flipV="1">
              <a:off x="2262240" y="5482800"/>
              <a:ext cx="4867560" cy="4680"/>
            </a:xfrm>
            <a:prstGeom prst="line">
              <a:avLst/>
            </a:prstGeom>
            <a:ln w="28440">
              <a:solidFill>
                <a:srgbClr val="0000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7" name="Straight Arrow Connector 18"/>
            <p:cNvCxnSpPr/>
            <p:nvPr/>
          </p:nvCxnSpPr>
          <p:spPr>
            <a:xfrm flipH="1" flipV="1">
              <a:off x="7212960" y="2104920"/>
              <a:ext cx="508680" cy="6382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8" name="Straight Arrow Connector 20"/>
            <p:cNvCxnSpPr/>
            <p:nvPr/>
          </p:nvCxnSpPr>
          <p:spPr>
            <a:xfrm flipH="1">
              <a:off x="7257960" y="3425760"/>
              <a:ext cx="435600" cy="2908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9" name="Straight Arrow Connector 22"/>
            <p:cNvCxnSpPr/>
            <p:nvPr/>
          </p:nvCxnSpPr>
          <p:spPr>
            <a:xfrm flipH="1">
              <a:off x="7243200" y="4238280"/>
              <a:ext cx="594360" cy="11754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720" name="TextBox 23"/>
            <p:cNvSpPr/>
            <p:nvPr/>
          </p:nvSpPr>
          <p:spPr>
            <a:xfrm>
              <a:off x="7823520" y="2801880"/>
              <a:ext cx="885600" cy="161856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und model value:         0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Sept. 26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Hadron Spectroscopy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Mac Mestayer </a:t>
            </a:r>
            <a:fld id="{FE60D3E5-4A73-4E1B-9211-FA622F1460B9}" type="slidenum">
              <a:rPr b="0" lang="en-US" sz="1200" spc="-1" strike="noStrike">
                <a:solidFill>
                  <a:srgbClr val="898989"/>
                </a:solidFill>
                <a:latin typeface="Palatin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2" descr=""/>
          <p:cNvPicPr/>
          <p:nvPr/>
        </p:nvPicPr>
        <p:blipFill>
          <a:blip r:embed="rId1"/>
          <a:stretch/>
        </p:blipFill>
        <p:spPr>
          <a:xfrm>
            <a:off x="1714680" y="571680"/>
            <a:ext cx="5715000" cy="5715000"/>
          </a:xfrm>
          <a:prstGeom prst="rect">
            <a:avLst/>
          </a:prstGeom>
          <a:ln w="0">
            <a:noFill/>
          </a:ln>
        </p:spPr>
      </p:pic>
      <p:grpSp>
        <p:nvGrpSpPr>
          <p:cNvPr id="725" name="Group 24"/>
          <p:cNvGrpSpPr/>
          <p:nvPr/>
        </p:nvGrpSpPr>
        <p:grpSpPr>
          <a:xfrm>
            <a:off x="2262240" y="2028600"/>
            <a:ext cx="6446880" cy="3458880"/>
            <a:chOff x="2262240" y="2028600"/>
            <a:chExt cx="6446880" cy="3458880"/>
          </a:xfrm>
        </p:grpSpPr>
        <p:sp>
          <p:nvSpPr>
            <p:cNvPr id="726" name="Straight Connector 8"/>
            <p:cNvSpPr/>
            <p:nvPr/>
          </p:nvSpPr>
          <p:spPr>
            <a:xfrm flipV="1">
              <a:off x="2276280" y="2028600"/>
              <a:ext cx="4867560" cy="4680"/>
            </a:xfrm>
            <a:prstGeom prst="line">
              <a:avLst/>
            </a:prstGeom>
            <a:ln w="28440">
              <a:solidFill>
                <a:srgbClr val="0000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Straight Connector 9"/>
            <p:cNvSpPr/>
            <p:nvPr/>
          </p:nvSpPr>
          <p:spPr>
            <a:xfrm flipV="1">
              <a:off x="2284200" y="3763440"/>
              <a:ext cx="4867560" cy="4680"/>
            </a:xfrm>
            <a:prstGeom prst="line">
              <a:avLst/>
            </a:prstGeom>
            <a:ln w="28440">
              <a:solidFill>
                <a:srgbClr val="0000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Straight Connector 10"/>
            <p:cNvSpPr/>
            <p:nvPr/>
          </p:nvSpPr>
          <p:spPr>
            <a:xfrm flipV="1">
              <a:off x="2262240" y="5482800"/>
              <a:ext cx="4867560" cy="4680"/>
            </a:xfrm>
            <a:prstGeom prst="line">
              <a:avLst/>
            </a:prstGeom>
            <a:ln w="28440">
              <a:solidFill>
                <a:srgbClr val="0000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9" name="Straight Arrow Connector 11"/>
            <p:cNvCxnSpPr/>
            <p:nvPr/>
          </p:nvCxnSpPr>
          <p:spPr>
            <a:xfrm flipH="1" flipV="1">
              <a:off x="7212960" y="2104920"/>
              <a:ext cx="508680" cy="6382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0" name="Straight Arrow Connector 12"/>
            <p:cNvCxnSpPr/>
            <p:nvPr/>
          </p:nvCxnSpPr>
          <p:spPr>
            <a:xfrm flipH="1">
              <a:off x="7257960" y="3425760"/>
              <a:ext cx="435600" cy="2908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1" name="Straight Arrow Connector 13"/>
            <p:cNvCxnSpPr/>
            <p:nvPr/>
          </p:nvCxnSpPr>
          <p:spPr>
            <a:xfrm flipH="1">
              <a:off x="7243200" y="4238280"/>
              <a:ext cx="594360" cy="11754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732" name="TextBox 14"/>
            <p:cNvSpPr/>
            <p:nvPr/>
          </p:nvSpPr>
          <p:spPr>
            <a:xfrm>
              <a:off x="7823520" y="2801880"/>
              <a:ext cx="885600" cy="161856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und model value:         0.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TextBox 15"/>
          <p:cNvSpPr/>
          <p:nvPr/>
        </p:nvSpPr>
        <p:spPr>
          <a:xfrm>
            <a:off x="203040" y="1058760"/>
            <a:ext cx="1625760" cy="19234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ed yield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= 2.2G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Quark Pair Creation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761760"/>
            <a:ext cx="8229600" cy="990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Quark-pair creation: “kernel” of exclusive production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hat field couples to the q-q current?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grpSp>
        <p:nvGrpSpPr>
          <p:cNvPr id="511" name="Group 38"/>
          <p:cNvGrpSpPr/>
          <p:nvPr/>
        </p:nvGrpSpPr>
        <p:grpSpPr>
          <a:xfrm>
            <a:off x="4343400" y="3048120"/>
            <a:ext cx="4648320" cy="2286000"/>
            <a:chOff x="4343400" y="3048120"/>
            <a:chExt cx="4648320" cy="2286000"/>
          </a:xfrm>
        </p:grpSpPr>
        <p:sp>
          <p:nvSpPr>
            <p:cNvPr id="512" name="Freeform 5"/>
            <p:cNvSpPr/>
            <p:nvPr/>
          </p:nvSpPr>
          <p:spPr>
            <a:xfrm>
              <a:off x="4510080" y="3792600"/>
              <a:ext cx="1301760" cy="336600"/>
            </a:xfrm>
            <a:custGeom>
              <a:avLst/>
              <a:gdLst/>
              <a:ahLst/>
              <a:rect l="l" t="t" r="r" b="b"/>
              <a:pathLst>
                <a:path w="3166311" h="483268">
                  <a:moveTo>
                    <a:pt x="0" y="162426"/>
                  </a:moveTo>
                  <a:cubicBezTo>
                    <a:pt x="103271" y="81213"/>
                    <a:pt x="206542" y="0"/>
                    <a:pt x="324852" y="42110"/>
                  </a:cubicBezTo>
                  <a:cubicBezTo>
                    <a:pt x="443162" y="84220"/>
                    <a:pt x="591552" y="407068"/>
                    <a:pt x="709863" y="415089"/>
                  </a:cubicBezTo>
                  <a:cubicBezTo>
                    <a:pt x="828174" y="423110"/>
                    <a:pt x="922421" y="80211"/>
                    <a:pt x="1034716" y="90237"/>
                  </a:cubicBezTo>
                  <a:cubicBezTo>
                    <a:pt x="1147011" y="100263"/>
                    <a:pt x="1263315" y="467226"/>
                    <a:pt x="1383631" y="475247"/>
                  </a:cubicBezTo>
                  <a:cubicBezTo>
                    <a:pt x="1503947" y="483268"/>
                    <a:pt x="1626268" y="148389"/>
                    <a:pt x="1756610" y="138363"/>
                  </a:cubicBezTo>
                  <a:cubicBezTo>
                    <a:pt x="1886952" y="128337"/>
                    <a:pt x="2047374" y="411079"/>
                    <a:pt x="2165684" y="415089"/>
                  </a:cubicBezTo>
                  <a:cubicBezTo>
                    <a:pt x="2283995" y="419100"/>
                    <a:pt x="2374231" y="172452"/>
                    <a:pt x="2466473" y="162426"/>
                  </a:cubicBezTo>
                  <a:cubicBezTo>
                    <a:pt x="2558715" y="152400"/>
                    <a:pt x="2632911" y="358942"/>
                    <a:pt x="2719137" y="354931"/>
                  </a:cubicBezTo>
                  <a:cubicBezTo>
                    <a:pt x="2805363" y="350921"/>
                    <a:pt x="2913647" y="150394"/>
                    <a:pt x="2983831" y="138363"/>
                  </a:cubicBezTo>
                  <a:cubicBezTo>
                    <a:pt x="3054015" y="126332"/>
                    <a:pt x="3114174" y="260684"/>
                    <a:pt x="3140242" y="282742"/>
                  </a:cubicBezTo>
                  <a:cubicBezTo>
                    <a:pt x="3166311" y="304800"/>
                    <a:pt x="3153276" y="287755"/>
                    <a:pt x="3140242" y="2707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3" name="Straight Arrow Connector 7"/>
            <p:cNvCxnSpPr>
              <a:stCxn id="512" idx="10"/>
            </p:cNvCxnSpPr>
            <p:nvPr/>
          </p:nvCxnSpPr>
          <p:spPr>
            <a:xfrm flipV="1">
              <a:off x="5800320" y="3579120"/>
              <a:ext cx="1863000" cy="4100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514" name="Straight Arrow Connector 9"/>
            <p:cNvCxnSpPr>
              <a:stCxn id="512" idx="10"/>
            </p:cNvCxnSpPr>
            <p:nvPr/>
          </p:nvCxnSpPr>
          <p:spPr>
            <a:xfrm>
              <a:off x="5800680" y="3989160"/>
              <a:ext cx="2085120" cy="5482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515" name="Freeform 10"/>
            <p:cNvSpPr/>
            <p:nvPr/>
          </p:nvSpPr>
          <p:spPr>
            <a:xfrm>
              <a:off x="4730760" y="3738600"/>
              <a:ext cx="2962440" cy="763560"/>
            </a:xfrm>
            <a:custGeom>
              <a:avLst/>
              <a:gdLst/>
              <a:ahLst/>
              <a:rect l="l" t="t" r="r" b="b"/>
              <a:pathLst>
                <a:path w="4078705" h="1092869">
                  <a:moveTo>
                    <a:pt x="0" y="1058779"/>
                  </a:moveTo>
                  <a:cubicBezTo>
                    <a:pt x="339892" y="1075824"/>
                    <a:pt x="679784" y="1092869"/>
                    <a:pt x="938463" y="1070811"/>
                  </a:cubicBezTo>
                  <a:cubicBezTo>
                    <a:pt x="1197142" y="1048753"/>
                    <a:pt x="1321468" y="1028701"/>
                    <a:pt x="1552073" y="926432"/>
                  </a:cubicBezTo>
                  <a:cubicBezTo>
                    <a:pt x="1782678" y="824164"/>
                    <a:pt x="1900989" y="611605"/>
                    <a:pt x="2322094" y="457200"/>
                  </a:cubicBezTo>
                  <a:cubicBezTo>
                    <a:pt x="2743199" y="302795"/>
                    <a:pt x="4078705" y="0"/>
                    <a:pt x="4078705" y="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6"/>
            <p:cNvSpPr/>
            <p:nvPr/>
          </p:nvSpPr>
          <p:spPr>
            <a:xfrm>
              <a:off x="4730760" y="4537080"/>
              <a:ext cx="3119760" cy="142560"/>
            </a:xfrm>
            <a:custGeom>
              <a:avLst/>
              <a:gdLst/>
              <a:ahLst/>
              <a:rect l="l" t="t" r="r" b="b"/>
              <a:pathLst>
                <a:path w="4295274" h="204537">
                  <a:moveTo>
                    <a:pt x="0" y="96253"/>
                  </a:moveTo>
                  <a:lnTo>
                    <a:pt x="1937085" y="60158"/>
                  </a:lnTo>
                  <a:cubicBezTo>
                    <a:pt x="2428374" y="46121"/>
                    <a:pt x="2614863" y="0"/>
                    <a:pt x="2947737" y="12032"/>
                  </a:cubicBezTo>
                  <a:cubicBezTo>
                    <a:pt x="3280611" y="24064"/>
                    <a:pt x="3709738" y="100263"/>
                    <a:pt x="3934327" y="132347"/>
                  </a:cubicBezTo>
                  <a:cubicBezTo>
                    <a:pt x="4158916" y="164431"/>
                    <a:pt x="4227095" y="184484"/>
                    <a:pt x="4295274" y="204537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8"/>
            <p:cNvSpPr/>
            <p:nvPr/>
          </p:nvSpPr>
          <p:spPr>
            <a:xfrm>
              <a:off x="4786200" y="4696200"/>
              <a:ext cx="3092760" cy="125280"/>
            </a:xfrm>
            <a:custGeom>
              <a:avLst/>
              <a:gdLst/>
              <a:ahLst/>
              <a:rect l="l" t="t" r="r" b="b"/>
              <a:pathLst>
                <a:path w="4259179" h="180474">
                  <a:moveTo>
                    <a:pt x="0" y="48126"/>
                  </a:moveTo>
                  <a:lnTo>
                    <a:pt x="2610853" y="0"/>
                  </a:lnTo>
                  <a:cubicBezTo>
                    <a:pt x="3196390" y="2005"/>
                    <a:pt x="3238501" y="30079"/>
                    <a:pt x="3513222" y="60158"/>
                  </a:cubicBezTo>
                  <a:cubicBezTo>
                    <a:pt x="3787943" y="90237"/>
                    <a:pt x="4259179" y="180474"/>
                    <a:pt x="4259179" y="180474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Group 29"/>
            <p:cNvGrpSpPr/>
            <p:nvPr/>
          </p:nvGrpSpPr>
          <p:grpSpPr>
            <a:xfrm>
              <a:off x="7885440" y="3367080"/>
              <a:ext cx="342360" cy="703800"/>
              <a:chOff x="7885440" y="3367080"/>
              <a:chExt cx="342360" cy="703800"/>
            </a:xfrm>
          </p:grpSpPr>
          <p:sp>
            <p:nvSpPr>
              <p:cNvPr id="519" name="TextBox 19"/>
              <p:cNvSpPr/>
              <p:nvPr/>
            </p:nvSpPr>
            <p:spPr>
              <a:xfrm>
                <a:off x="7885440" y="3367080"/>
                <a:ext cx="342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Palatino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Palatino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Straight Connector 26"/>
              <p:cNvSpPr/>
              <p:nvPr/>
            </p:nvSpPr>
            <p:spPr>
              <a:xfrm>
                <a:off x="7996320" y="3419280"/>
                <a:ext cx="1112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TextBox 28"/>
            <p:cNvSpPr/>
            <p:nvPr/>
          </p:nvSpPr>
          <p:spPr>
            <a:xfrm>
              <a:off x="7889040" y="4377240"/>
              <a:ext cx="325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alatino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alatino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alatino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Box 33"/>
            <p:cNvSpPr/>
            <p:nvPr/>
          </p:nvSpPr>
          <p:spPr>
            <a:xfrm>
              <a:off x="8409600" y="3420000"/>
              <a:ext cx="49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Palatino"/>
                </a:rPr>
                <a:t>K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Palatino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Box 34"/>
            <p:cNvSpPr/>
            <p:nvPr/>
          </p:nvSpPr>
          <p:spPr>
            <a:xfrm>
              <a:off x="8440560" y="4536720"/>
              <a:ext cx="3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ight Brace 35"/>
            <p:cNvSpPr/>
            <p:nvPr/>
          </p:nvSpPr>
          <p:spPr>
            <a:xfrm>
              <a:off x="8272800" y="3419640"/>
              <a:ext cx="110880" cy="372960"/>
            </a:xfrm>
            <a:custGeom>
              <a:avLst/>
              <a:gdLst>
                <a:gd name="textAreaLeft" fmla="*/ 0 w 110880"/>
                <a:gd name="textAreaRight" fmla="*/ 39960 w 110880"/>
                <a:gd name="textAreaTop" fmla="*/ 2520 h 372960"/>
                <a:gd name="textAreaBottom" fmla="*/ 370440 h 37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258"/>
                    <a:pt x="10800" y="515"/>
                  </a:cubicBezTo>
                  <a:lnTo>
                    <a:pt x="10800" y="10285"/>
                  </a:lnTo>
                  <a:cubicBezTo>
                    <a:pt x="10800" y="10543"/>
                    <a:pt x="16200" y="10800"/>
                    <a:pt x="21600" y="10800"/>
                  </a:cubicBezTo>
                  <a:cubicBezTo>
                    <a:pt x="16200" y="10800"/>
                    <a:pt x="10800" y="11058"/>
                    <a:pt x="10800" y="11315"/>
                  </a:cubicBezTo>
                  <a:lnTo>
                    <a:pt x="10800" y="21085"/>
                  </a:lnTo>
                  <a:cubicBezTo>
                    <a:pt x="10800" y="21343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ight Brace 36"/>
            <p:cNvSpPr/>
            <p:nvPr/>
          </p:nvSpPr>
          <p:spPr>
            <a:xfrm>
              <a:off x="8272800" y="4537080"/>
              <a:ext cx="110880" cy="371520"/>
            </a:xfrm>
            <a:custGeom>
              <a:avLst/>
              <a:gdLst>
                <a:gd name="textAreaLeft" fmla="*/ 0 w 110880"/>
                <a:gd name="textAreaRight" fmla="*/ 39960 w 110880"/>
                <a:gd name="textAreaTop" fmla="*/ 2520 h 371520"/>
                <a:gd name="textAreaBottom" fmla="*/ 369000 h 37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259"/>
                    <a:pt x="10800" y="517"/>
                  </a:cubicBezTo>
                  <a:lnTo>
                    <a:pt x="10800" y="10283"/>
                  </a:lnTo>
                  <a:cubicBezTo>
                    <a:pt x="10800" y="10542"/>
                    <a:pt x="16200" y="10800"/>
                    <a:pt x="21600" y="10800"/>
                  </a:cubicBezTo>
                  <a:cubicBezTo>
                    <a:pt x="16200" y="10800"/>
                    <a:pt x="10800" y="11059"/>
                    <a:pt x="10800" y="11317"/>
                  </a:cubicBezTo>
                  <a:lnTo>
                    <a:pt x="10800" y="21083"/>
                  </a:lnTo>
                  <a:cubicBezTo>
                    <a:pt x="10800" y="21342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ounded Rectangle 37"/>
            <p:cNvSpPr/>
            <p:nvPr/>
          </p:nvSpPr>
          <p:spPr>
            <a:xfrm>
              <a:off x="4343400" y="3048120"/>
              <a:ext cx="4648320" cy="22860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79"/>
          <p:cNvGrpSpPr/>
          <p:nvPr/>
        </p:nvGrpSpPr>
        <p:grpSpPr>
          <a:xfrm>
            <a:off x="152280" y="2057400"/>
            <a:ext cx="3962520" cy="4038480"/>
            <a:chOff x="152280" y="2057400"/>
            <a:chExt cx="3962520" cy="4038480"/>
          </a:xfrm>
        </p:grpSpPr>
        <p:sp>
          <p:nvSpPr>
            <p:cNvPr id="528" name="Freeform 23"/>
            <p:cNvSpPr/>
            <p:nvPr/>
          </p:nvSpPr>
          <p:spPr>
            <a:xfrm>
              <a:off x="228240" y="3817800"/>
              <a:ext cx="1665360" cy="522000"/>
            </a:xfrm>
            <a:custGeom>
              <a:avLst/>
              <a:gdLst/>
              <a:ahLst/>
              <a:rect l="l" t="t" r="r" b="b"/>
              <a:pathLst>
                <a:path w="3166311" h="483268">
                  <a:moveTo>
                    <a:pt x="0" y="162426"/>
                  </a:moveTo>
                  <a:cubicBezTo>
                    <a:pt x="103271" y="81213"/>
                    <a:pt x="206542" y="0"/>
                    <a:pt x="324852" y="42110"/>
                  </a:cubicBezTo>
                  <a:cubicBezTo>
                    <a:pt x="443162" y="84220"/>
                    <a:pt x="591552" y="407068"/>
                    <a:pt x="709863" y="415089"/>
                  </a:cubicBezTo>
                  <a:cubicBezTo>
                    <a:pt x="828174" y="423110"/>
                    <a:pt x="922421" y="80211"/>
                    <a:pt x="1034716" y="90237"/>
                  </a:cubicBezTo>
                  <a:cubicBezTo>
                    <a:pt x="1147011" y="100263"/>
                    <a:pt x="1263315" y="467226"/>
                    <a:pt x="1383631" y="475247"/>
                  </a:cubicBezTo>
                  <a:cubicBezTo>
                    <a:pt x="1503947" y="483268"/>
                    <a:pt x="1626268" y="148389"/>
                    <a:pt x="1756610" y="138363"/>
                  </a:cubicBezTo>
                  <a:cubicBezTo>
                    <a:pt x="1886952" y="128337"/>
                    <a:pt x="2047374" y="411079"/>
                    <a:pt x="2165684" y="415089"/>
                  </a:cubicBezTo>
                  <a:cubicBezTo>
                    <a:pt x="2283995" y="419100"/>
                    <a:pt x="2374231" y="172452"/>
                    <a:pt x="2466473" y="162426"/>
                  </a:cubicBezTo>
                  <a:cubicBezTo>
                    <a:pt x="2558715" y="152400"/>
                    <a:pt x="2632911" y="358942"/>
                    <a:pt x="2719137" y="354931"/>
                  </a:cubicBezTo>
                  <a:cubicBezTo>
                    <a:pt x="2805363" y="350921"/>
                    <a:pt x="2913647" y="150394"/>
                    <a:pt x="2983831" y="138363"/>
                  </a:cubicBezTo>
                  <a:cubicBezTo>
                    <a:pt x="3054015" y="126332"/>
                    <a:pt x="3114174" y="260684"/>
                    <a:pt x="3140242" y="282742"/>
                  </a:cubicBezTo>
                  <a:cubicBezTo>
                    <a:pt x="3166311" y="304800"/>
                    <a:pt x="3153276" y="287755"/>
                    <a:pt x="3140242" y="270710"/>
                  </a:cubicBezTo>
                </a:path>
              </a:pathLst>
            </a:custGeom>
            <a:noFill/>
            <a:ln w="9360">
              <a:solidFill>
                <a:srgbClr val="1025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9" name="Straight Arrow Connector 24"/>
            <p:cNvCxnSpPr/>
            <p:nvPr/>
          </p:nvCxnSpPr>
          <p:spPr>
            <a:xfrm flipV="1">
              <a:off x="2378160" y="3275640"/>
              <a:ext cx="381600" cy="99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530" name="Straight Arrow Connector 25"/>
            <p:cNvCxnSpPr/>
            <p:nvPr/>
          </p:nvCxnSpPr>
          <p:spPr>
            <a:xfrm>
              <a:off x="2378160" y="4267080"/>
              <a:ext cx="442080" cy="4579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grpSp>
          <p:nvGrpSpPr>
            <p:cNvPr id="531" name="Group 35"/>
            <p:cNvGrpSpPr/>
            <p:nvPr/>
          </p:nvGrpSpPr>
          <p:grpSpPr>
            <a:xfrm>
              <a:off x="2796480" y="4648320"/>
              <a:ext cx="1185120" cy="703800"/>
              <a:chOff x="2796480" y="4648320"/>
              <a:chExt cx="1185120" cy="703800"/>
            </a:xfrm>
          </p:grpSpPr>
          <p:grpSp>
            <p:nvGrpSpPr>
              <p:cNvPr id="532" name="Group 29"/>
              <p:cNvGrpSpPr/>
              <p:nvPr/>
            </p:nvGrpSpPr>
            <p:grpSpPr>
              <a:xfrm>
                <a:off x="2796480" y="4648320"/>
                <a:ext cx="342360" cy="703800"/>
                <a:chOff x="2796480" y="4648320"/>
                <a:chExt cx="342360" cy="703800"/>
              </a:xfrm>
            </p:grpSpPr>
            <p:sp>
              <p:nvSpPr>
                <p:cNvPr id="533" name="TextBox 17"/>
                <p:cNvSpPr/>
                <p:nvPr/>
              </p:nvSpPr>
              <p:spPr>
                <a:xfrm>
                  <a:off x="2796480" y="4648320"/>
                  <a:ext cx="342360" cy="70380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Palatino"/>
                    </a:rPr>
                    <a:t>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Palatino"/>
                    </a:rPr>
                    <a:t>u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Straight Connector 49"/>
                <p:cNvSpPr/>
                <p:nvPr/>
              </p:nvSpPr>
              <p:spPr>
                <a:xfrm>
                  <a:off x="2890800" y="4730760"/>
                  <a:ext cx="141120" cy="1440"/>
                </a:xfrm>
                <a:prstGeom prst="line">
                  <a:avLst/>
                </a:prstGeom>
                <a:ln w="38160">
                  <a:solidFill>
                    <a:srgbClr val="1025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5" name="TextBox 46"/>
              <p:cNvSpPr/>
              <p:nvPr/>
            </p:nvSpPr>
            <p:spPr>
              <a:xfrm>
                <a:off x="3488400" y="4730400"/>
                <a:ext cx="49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Palatino"/>
                  </a:rPr>
                  <a:t>K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Palatino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ight Brace 47"/>
              <p:cNvSpPr/>
              <p:nvPr/>
            </p:nvSpPr>
            <p:spPr>
              <a:xfrm>
                <a:off x="3245040" y="4730760"/>
                <a:ext cx="141120" cy="574560"/>
              </a:xfrm>
              <a:custGeom>
                <a:avLst/>
                <a:gdLst>
                  <a:gd name="textAreaLeft" fmla="*/ 0 w 141120"/>
                  <a:gd name="textAreaRight" fmla="*/ 50760 w 141120"/>
                  <a:gd name="textAreaTop" fmla="*/ 3600 h 574560"/>
                  <a:gd name="textAreaBottom" fmla="*/ 570960 h 57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222"/>
                      <a:pt x="10800" y="443"/>
                    </a:cubicBezTo>
                    <a:lnTo>
                      <a:pt x="10800" y="10357"/>
                    </a:lnTo>
                    <a:cubicBezTo>
                      <a:pt x="10800" y="10579"/>
                      <a:pt x="16200" y="10800"/>
                      <a:pt x="21600" y="10800"/>
                    </a:cubicBezTo>
                    <a:cubicBezTo>
                      <a:pt x="16200" y="10800"/>
                      <a:pt x="10800" y="11022"/>
                      <a:pt x="10800" y="11243"/>
                    </a:cubicBezTo>
                    <a:lnTo>
                      <a:pt x="10800" y="21157"/>
                    </a:lnTo>
                    <a:cubicBezTo>
                      <a:pt x="10800" y="21379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1025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TextBox 30"/>
            <p:cNvSpPr/>
            <p:nvPr/>
          </p:nvSpPr>
          <p:spPr>
            <a:xfrm>
              <a:off x="3356280" y="2286000"/>
              <a:ext cx="3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Group 43"/>
            <p:cNvGrpSpPr/>
            <p:nvPr/>
          </p:nvGrpSpPr>
          <p:grpSpPr>
            <a:xfrm>
              <a:off x="2446920" y="2404440"/>
              <a:ext cx="893880" cy="961560"/>
              <a:chOff x="2446920" y="2404440"/>
              <a:chExt cx="893880" cy="961560"/>
            </a:xfrm>
          </p:grpSpPr>
          <p:sp>
            <p:nvSpPr>
              <p:cNvPr id="539" name="TextBox 43"/>
              <p:cNvSpPr/>
              <p:nvPr/>
            </p:nvSpPr>
            <p:spPr>
              <a:xfrm rot="19897200">
                <a:off x="2644920" y="2426760"/>
                <a:ext cx="3254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Palatino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Palatino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Palatino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ight Brace 44"/>
              <p:cNvSpPr/>
              <p:nvPr/>
            </p:nvSpPr>
            <p:spPr>
              <a:xfrm rot="19897200">
                <a:off x="3071520" y="2498760"/>
                <a:ext cx="141480" cy="573120"/>
              </a:xfrm>
              <a:custGeom>
                <a:avLst/>
                <a:gdLst>
                  <a:gd name="textAreaLeft" fmla="*/ 0 w 141480"/>
                  <a:gd name="textAreaRight" fmla="*/ 51120 w 141480"/>
                  <a:gd name="textAreaTop" fmla="*/ 3600 h 573120"/>
                  <a:gd name="textAreaBottom" fmla="*/ 569520 h 573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222"/>
                      <a:pt x="10800" y="444"/>
                    </a:cubicBezTo>
                    <a:lnTo>
                      <a:pt x="10800" y="10356"/>
                    </a:lnTo>
                    <a:cubicBezTo>
                      <a:pt x="10800" y="10578"/>
                      <a:pt x="16200" y="10800"/>
                      <a:pt x="21600" y="10800"/>
                    </a:cubicBezTo>
                    <a:cubicBezTo>
                      <a:pt x="16200" y="10800"/>
                      <a:pt x="10800" y="11022"/>
                      <a:pt x="10800" y="11244"/>
                    </a:cubicBezTo>
                    <a:lnTo>
                      <a:pt x="10800" y="21156"/>
                    </a:lnTo>
                    <a:cubicBezTo>
                      <a:pt x="10800" y="21378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1025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1" name="Straight Connector 39"/>
            <p:cNvSpPr/>
            <p:nvPr/>
          </p:nvSpPr>
          <p:spPr>
            <a:xfrm flipV="1">
              <a:off x="1311120" y="4122720"/>
              <a:ext cx="568080" cy="1363680"/>
            </a:xfrm>
            <a:prstGeom prst="line">
              <a:avLst/>
            </a:prstGeom>
            <a:ln w="93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Straight Connector 40"/>
            <p:cNvSpPr/>
            <p:nvPr/>
          </p:nvSpPr>
          <p:spPr>
            <a:xfrm>
              <a:off x="1879560" y="4110120"/>
              <a:ext cx="863640" cy="842760"/>
            </a:xfrm>
            <a:prstGeom prst="line">
              <a:avLst/>
            </a:prstGeom>
            <a:ln w="93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Straight Connector 41"/>
            <p:cNvSpPr/>
            <p:nvPr/>
          </p:nvSpPr>
          <p:spPr>
            <a:xfrm flipV="1">
              <a:off x="1462680" y="2971440"/>
              <a:ext cx="1066680" cy="2590920"/>
            </a:xfrm>
            <a:prstGeom prst="line">
              <a:avLst/>
            </a:prstGeom>
            <a:ln w="93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Straight Connector 42"/>
            <p:cNvSpPr/>
            <p:nvPr/>
          </p:nvSpPr>
          <p:spPr>
            <a:xfrm flipV="1">
              <a:off x="1539000" y="3200040"/>
              <a:ext cx="1066680" cy="2438280"/>
            </a:xfrm>
            <a:prstGeom prst="line">
              <a:avLst/>
            </a:prstGeom>
            <a:ln w="93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ounded Rectangle 55"/>
            <p:cNvSpPr/>
            <p:nvPr/>
          </p:nvSpPr>
          <p:spPr>
            <a:xfrm>
              <a:off x="152280" y="2057400"/>
              <a:ext cx="3962520" cy="4038480"/>
            </a:xfrm>
            <a:custGeom>
              <a:avLst/>
              <a:gdLst>
                <a:gd name="textAreaLeft" fmla="*/ 193320 w 3962520"/>
                <a:gd name="textAreaRight" fmla="*/ 3769200 w 3962520"/>
                <a:gd name="textAreaTop" fmla="*/ 193320 h 4038480"/>
                <a:gd name="textAreaBottom" fmla="*/ 3845160 h 4038480"/>
              </a:gdLst>
              <a:ahLst/>
              <a:rect l="textAreaLeft" t="textAreaTop" r="textAreaRight" b="textAreaBottom"/>
              <a:pathLst>
                <a:path w="21600" h="22014">
                  <a:moveTo>
                    <a:pt x="3600" y="0"/>
                  </a:moveTo>
                  <a:arcTo wR="3600" hR="3600" stAng="16200000" swAng="-5400000"/>
                  <a:lnTo>
                    <a:pt x="0" y="18414"/>
                  </a:lnTo>
                  <a:arcTo wR="3600" hR="3600" stAng="10800000" swAng="-5400000"/>
                  <a:lnTo>
                    <a:pt x="18000" y="220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" name="Group 77"/>
            <p:cNvGrpSpPr/>
            <p:nvPr/>
          </p:nvGrpSpPr>
          <p:grpSpPr>
            <a:xfrm>
              <a:off x="333360" y="2666880"/>
              <a:ext cx="1820520" cy="642600"/>
              <a:chOff x="333360" y="2666880"/>
              <a:chExt cx="1820520" cy="642600"/>
            </a:xfrm>
          </p:grpSpPr>
          <p:sp>
            <p:nvSpPr>
              <p:cNvPr id="547" name="TextBox 61"/>
              <p:cNvSpPr/>
              <p:nvPr/>
            </p:nvSpPr>
            <p:spPr>
              <a:xfrm>
                <a:off x="333360" y="2666880"/>
                <a:ext cx="1820520" cy="64260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Palatino"/>
                  </a:rPr>
                  <a:t>ss  produc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Palatino"/>
                  </a:rPr>
                  <a:t>From flux-tub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Straight Connector 64"/>
              <p:cNvSpPr/>
              <p:nvPr/>
            </p:nvSpPr>
            <p:spPr>
              <a:xfrm>
                <a:off x="568080" y="2788920"/>
                <a:ext cx="91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9" name="Group 78"/>
          <p:cNvGrpSpPr/>
          <p:nvPr/>
        </p:nvGrpSpPr>
        <p:grpSpPr>
          <a:xfrm>
            <a:off x="4388040" y="3200400"/>
            <a:ext cx="2926800" cy="368280"/>
            <a:chOff x="4388040" y="3200400"/>
            <a:chExt cx="2926800" cy="368280"/>
          </a:xfrm>
        </p:grpSpPr>
        <p:sp>
          <p:nvSpPr>
            <p:cNvPr id="550" name="TextBox 62"/>
            <p:cNvSpPr/>
            <p:nvPr/>
          </p:nvSpPr>
          <p:spPr>
            <a:xfrm>
              <a:off x="4388040" y="3200400"/>
              <a:ext cx="2926800" cy="3682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alatino"/>
                </a:rPr>
                <a:t>ss produced from phot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Straight Connector 76"/>
            <p:cNvSpPr/>
            <p:nvPr/>
          </p:nvSpPr>
          <p:spPr>
            <a:xfrm>
              <a:off x="4755960" y="3319200"/>
              <a:ext cx="91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Date Placeholder 4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Sept. 26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lide Number Placeholder 4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Mac Mestayer </a:t>
            </a:r>
            <a:fld id="{82288FBF-F686-49C2-8457-BCB9F9CB9D3F}" type="slidenum">
              <a:rPr b="0" lang="en-US" sz="1200" spc="-1" strike="noStrike">
                <a:solidFill>
                  <a:srgbClr val="898989"/>
                </a:solidFill>
                <a:latin typeface="Palatin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oter Placeholder 4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Hadron Spectroscopy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60640" y="274320"/>
            <a:ext cx="686592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Using Exclusive Produc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o Study </a:t>
            </a: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Quark Pair Creation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556" name="Content Placeholder 4" descr=""/>
          <p:cNvPicPr/>
          <p:nvPr/>
        </p:nvPicPr>
        <p:blipFill>
          <a:blip r:embed="rId1"/>
          <a:stretch/>
        </p:blipFill>
        <p:spPr>
          <a:xfrm>
            <a:off x="347760" y="1530360"/>
            <a:ext cx="8454960" cy="4602240"/>
          </a:xfrm>
          <a:prstGeom prst="rect">
            <a:avLst/>
          </a:prstGeom>
          <a:ln w="0">
            <a:noFill/>
          </a:ln>
        </p:spPr>
      </p:pic>
      <p:grpSp>
        <p:nvGrpSpPr>
          <p:cNvPr id="557" name="Group 33"/>
          <p:cNvGrpSpPr/>
          <p:nvPr/>
        </p:nvGrpSpPr>
        <p:grpSpPr>
          <a:xfrm>
            <a:off x="1315440" y="3613320"/>
            <a:ext cx="1650600" cy="474120"/>
            <a:chOff x="1315440" y="3613320"/>
            <a:chExt cx="1650600" cy="474120"/>
          </a:xfrm>
        </p:grpSpPr>
        <p:grpSp>
          <p:nvGrpSpPr>
            <p:cNvPr id="558" name="Group 21"/>
            <p:cNvGrpSpPr/>
            <p:nvPr/>
          </p:nvGrpSpPr>
          <p:grpSpPr>
            <a:xfrm>
              <a:off x="1315440" y="3627720"/>
              <a:ext cx="567720" cy="459720"/>
              <a:chOff x="1315440" y="3627720"/>
              <a:chExt cx="567720" cy="459720"/>
            </a:xfrm>
          </p:grpSpPr>
          <p:sp>
            <p:nvSpPr>
              <p:cNvPr id="559" name="Straight Connector 22"/>
              <p:cNvSpPr/>
              <p:nvPr/>
            </p:nvSpPr>
            <p:spPr>
              <a:xfrm>
                <a:off x="1579680" y="3733560"/>
                <a:ext cx="142920" cy="1440"/>
              </a:xfrm>
              <a:prstGeom prst="line">
                <a:avLst/>
              </a:prstGeom>
              <a:ln w="38160">
                <a:solidFill>
                  <a:srgbClr val="1025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Box 23"/>
              <p:cNvSpPr/>
              <p:nvPr/>
            </p:nvSpPr>
            <p:spPr>
              <a:xfrm>
                <a:off x="1315440" y="3627720"/>
                <a:ext cx="56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Palatino"/>
                  </a:rPr>
                  <a:t>uu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Group 27"/>
            <p:cNvGrpSpPr/>
            <p:nvPr/>
          </p:nvGrpSpPr>
          <p:grpSpPr>
            <a:xfrm>
              <a:off x="1918800" y="3627720"/>
              <a:ext cx="555480" cy="459720"/>
              <a:chOff x="1918800" y="3627720"/>
              <a:chExt cx="555480" cy="459720"/>
            </a:xfrm>
          </p:grpSpPr>
          <p:sp>
            <p:nvSpPr>
              <p:cNvPr id="562" name="Straight Connector 28"/>
              <p:cNvSpPr/>
              <p:nvPr/>
            </p:nvSpPr>
            <p:spPr>
              <a:xfrm>
                <a:off x="2203560" y="3682800"/>
                <a:ext cx="142920" cy="1440"/>
              </a:xfrm>
              <a:prstGeom prst="line">
                <a:avLst/>
              </a:prstGeom>
              <a:ln w="38160">
                <a:solidFill>
                  <a:srgbClr val="1025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TextBox 29"/>
              <p:cNvSpPr/>
              <p:nvPr/>
            </p:nvSpPr>
            <p:spPr>
              <a:xfrm>
                <a:off x="1918800" y="3627720"/>
                <a:ext cx="555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Palatino"/>
                  </a:rPr>
                  <a:t>d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30"/>
            <p:cNvGrpSpPr/>
            <p:nvPr/>
          </p:nvGrpSpPr>
          <p:grpSpPr>
            <a:xfrm>
              <a:off x="2511000" y="3613320"/>
              <a:ext cx="455040" cy="459720"/>
              <a:chOff x="2511000" y="3613320"/>
              <a:chExt cx="455040" cy="459720"/>
            </a:xfrm>
          </p:grpSpPr>
          <p:sp>
            <p:nvSpPr>
              <p:cNvPr id="565" name="Straight Connector 31"/>
              <p:cNvSpPr/>
              <p:nvPr/>
            </p:nvSpPr>
            <p:spPr>
              <a:xfrm>
                <a:off x="2706480" y="3726000"/>
                <a:ext cx="141120" cy="1440"/>
              </a:xfrm>
              <a:prstGeom prst="line">
                <a:avLst/>
              </a:prstGeom>
              <a:ln w="38160">
                <a:solidFill>
                  <a:srgbClr val="1025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Box 32"/>
              <p:cNvSpPr/>
              <p:nvPr/>
            </p:nvSpPr>
            <p:spPr>
              <a:xfrm>
                <a:off x="2511000" y="3613320"/>
                <a:ext cx="45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Palatino"/>
                  </a:rPr>
                  <a:t>s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7" name="Group 37"/>
          <p:cNvGrpSpPr/>
          <p:nvPr/>
        </p:nvGrpSpPr>
        <p:grpSpPr>
          <a:xfrm>
            <a:off x="1482120" y="5424480"/>
            <a:ext cx="1649160" cy="474120"/>
            <a:chOff x="1482120" y="5424480"/>
            <a:chExt cx="1649160" cy="474120"/>
          </a:xfrm>
        </p:grpSpPr>
        <p:grpSp>
          <p:nvGrpSpPr>
            <p:cNvPr id="568" name="Group 21"/>
            <p:cNvGrpSpPr/>
            <p:nvPr/>
          </p:nvGrpSpPr>
          <p:grpSpPr>
            <a:xfrm>
              <a:off x="1482120" y="5438880"/>
              <a:ext cx="567720" cy="459720"/>
              <a:chOff x="1482120" y="5438880"/>
              <a:chExt cx="567720" cy="459720"/>
            </a:xfrm>
          </p:grpSpPr>
          <p:sp>
            <p:nvSpPr>
              <p:cNvPr id="569" name="Straight Connector 45"/>
              <p:cNvSpPr/>
              <p:nvPr/>
            </p:nvSpPr>
            <p:spPr>
              <a:xfrm>
                <a:off x="1746360" y="5545080"/>
                <a:ext cx="142920" cy="1440"/>
              </a:xfrm>
              <a:prstGeom prst="line">
                <a:avLst/>
              </a:prstGeom>
              <a:ln w="38160">
                <a:solidFill>
                  <a:srgbClr val="1025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Box 46"/>
              <p:cNvSpPr/>
              <p:nvPr/>
            </p:nvSpPr>
            <p:spPr>
              <a:xfrm>
                <a:off x="1482120" y="5438880"/>
                <a:ext cx="56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Palatino"/>
                  </a:rPr>
                  <a:t>uu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1" name="Group 27"/>
            <p:cNvGrpSpPr/>
            <p:nvPr/>
          </p:nvGrpSpPr>
          <p:grpSpPr>
            <a:xfrm>
              <a:off x="2084400" y="5438880"/>
              <a:ext cx="555480" cy="459720"/>
              <a:chOff x="2084400" y="5438880"/>
              <a:chExt cx="555480" cy="459720"/>
            </a:xfrm>
          </p:grpSpPr>
          <p:sp>
            <p:nvSpPr>
              <p:cNvPr id="572" name="Straight Connector 43"/>
              <p:cNvSpPr/>
              <p:nvPr/>
            </p:nvSpPr>
            <p:spPr>
              <a:xfrm>
                <a:off x="2369880" y="5493960"/>
                <a:ext cx="141120" cy="1440"/>
              </a:xfrm>
              <a:prstGeom prst="line">
                <a:avLst/>
              </a:prstGeom>
              <a:ln w="38160">
                <a:solidFill>
                  <a:srgbClr val="1025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Box 44"/>
              <p:cNvSpPr/>
              <p:nvPr/>
            </p:nvSpPr>
            <p:spPr>
              <a:xfrm>
                <a:off x="2084400" y="5438880"/>
                <a:ext cx="555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Palatino"/>
                  </a:rPr>
                  <a:t>d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30"/>
            <p:cNvGrpSpPr/>
            <p:nvPr/>
          </p:nvGrpSpPr>
          <p:grpSpPr>
            <a:xfrm>
              <a:off x="2676240" y="5424480"/>
              <a:ext cx="455040" cy="459720"/>
              <a:chOff x="2676240" y="5424480"/>
              <a:chExt cx="455040" cy="459720"/>
            </a:xfrm>
          </p:grpSpPr>
          <p:sp>
            <p:nvSpPr>
              <p:cNvPr id="575" name="Straight Connector 41"/>
              <p:cNvSpPr/>
              <p:nvPr/>
            </p:nvSpPr>
            <p:spPr>
              <a:xfrm>
                <a:off x="2871720" y="5537160"/>
                <a:ext cx="141120" cy="1440"/>
              </a:xfrm>
              <a:prstGeom prst="line">
                <a:avLst/>
              </a:prstGeom>
              <a:ln w="38160">
                <a:solidFill>
                  <a:srgbClr val="1025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Box 42"/>
              <p:cNvSpPr/>
              <p:nvPr/>
            </p:nvSpPr>
            <p:spPr>
              <a:xfrm>
                <a:off x="2676240" y="5424480"/>
                <a:ext cx="45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Palatino"/>
                  </a:rPr>
                  <a:t>s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7" name="Date Placeholder 2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Sept. 26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2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Mac Mestayer </a:t>
            </a:r>
            <a:fld id="{2CB0096C-FE8E-4058-AC46-925C562607DB}" type="slidenum">
              <a:rPr b="0" lang="en-US" sz="1200" spc="-1" strike="noStrike">
                <a:solidFill>
                  <a:srgbClr val="898989"/>
                </a:solidFill>
                <a:latin typeface="Palatin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2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Hadron Spectroscopy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Limits of the “quark model” ?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28760" y="1165320"/>
            <a:ext cx="822960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an the Lund model work in the limit of  </a:t>
            </a:r>
            <a:r>
              <a:rPr b="0" i="1" lang="en-US" sz="2800" spc="-1" strike="noStrike">
                <a:solidFill>
                  <a:srgbClr val="0000ff"/>
                </a:solidFill>
                <a:latin typeface="Palatino Linotype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qq pair production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recent analysis of a Hall 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(n) production experiment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Kaskulov, Gallmeister, Mosel; arXiv:0804.1834v4 [hep-ph]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model was developed to explain Rosenbluth separated exclusive electro-production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(n)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ingdings 3"/>
                <a:ea typeface="Wingdings 3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Palatino Linotype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escribed well as t-channel exchange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ingdings 3"/>
                <a:ea typeface="Wingdings 3"/>
              </a:rPr>
              <a:t>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Palatino Linotype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escribed well as “quark-scattering followed by string-breaking” with Lund model parameter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model also works for un-separated data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2" name="Straight Connector 15"/>
          <p:cNvSpPr/>
          <p:nvPr/>
        </p:nvSpPr>
        <p:spPr>
          <a:xfrm flipV="1">
            <a:off x="8202600" y="1189080"/>
            <a:ext cx="130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Sept. 26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Mac Mestayer </a:t>
            </a:r>
            <a:fld id="{748BFEB9-1A0B-4EAC-9381-15D769172D07}" type="slidenum">
              <a:rPr b="0" lang="en-US" sz="1200" spc="-1" strike="noStrike">
                <a:solidFill>
                  <a:srgbClr val="898989"/>
                </a:solidFill>
                <a:latin typeface="Palatin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Hadron Spectroscopy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73080" y="186840"/>
            <a:ext cx="7213680" cy="770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Exclusive 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Palatino Linotype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: sum of two processe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7" name="TextBox 4"/>
          <p:cNvSpPr/>
          <p:nvPr/>
        </p:nvSpPr>
        <p:spPr>
          <a:xfrm>
            <a:off x="7132680" y="4586400"/>
            <a:ext cx="119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t-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5"/>
          <p:cNvGrpSpPr/>
          <p:nvPr/>
        </p:nvGrpSpPr>
        <p:grpSpPr>
          <a:xfrm>
            <a:off x="5357880" y="2589120"/>
            <a:ext cx="2959560" cy="2476080"/>
            <a:chOff x="5357880" y="2589120"/>
            <a:chExt cx="2959560" cy="2476080"/>
          </a:xfrm>
        </p:grpSpPr>
        <p:sp>
          <p:nvSpPr>
            <p:cNvPr id="589" name="Freeform 6"/>
            <p:cNvSpPr/>
            <p:nvPr/>
          </p:nvSpPr>
          <p:spPr>
            <a:xfrm>
              <a:off x="5357880" y="2589120"/>
              <a:ext cx="2013120" cy="742680"/>
            </a:xfrm>
            <a:custGeom>
              <a:avLst/>
              <a:gdLst/>
              <a:ahLst/>
              <a:rect l="l" t="t" r="r" b="b"/>
              <a:pathLst>
                <a:path w="3166311" h="483268">
                  <a:moveTo>
                    <a:pt x="0" y="162426"/>
                  </a:moveTo>
                  <a:cubicBezTo>
                    <a:pt x="103271" y="81213"/>
                    <a:pt x="206542" y="0"/>
                    <a:pt x="324852" y="42110"/>
                  </a:cubicBezTo>
                  <a:cubicBezTo>
                    <a:pt x="443162" y="84220"/>
                    <a:pt x="591552" y="407068"/>
                    <a:pt x="709863" y="415089"/>
                  </a:cubicBezTo>
                  <a:cubicBezTo>
                    <a:pt x="828174" y="423110"/>
                    <a:pt x="922421" y="80211"/>
                    <a:pt x="1034716" y="90237"/>
                  </a:cubicBezTo>
                  <a:cubicBezTo>
                    <a:pt x="1147011" y="100263"/>
                    <a:pt x="1263315" y="467226"/>
                    <a:pt x="1383631" y="475247"/>
                  </a:cubicBezTo>
                  <a:cubicBezTo>
                    <a:pt x="1503947" y="483268"/>
                    <a:pt x="1626268" y="148389"/>
                    <a:pt x="1756610" y="138363"/>
                  </a:cubicBezTo>
                  <a:cubicBezTo>
                    <a:pt x="1886952" y="128337"/>
                    <a:pt x="2047374" y="411079"/>
                    <a:pt x="2165684" y="415089"/>
                  </a:cubicBezTo>
                  <a:cubicBezTo>
                    <a:pt x="2283995" y="419100"/>
                    <a:pt x="2374231" y="172452"/>
                    <a:pt x="2466473" y="162426"/>
                  </a:cubicBezTo>
                  <a:cubicBezTo>
                    <a:pt x="2558715" y="152400"/>
                    <a:pt x="2632911" y="358942"/>
                    <a:pt x="2719137" y="354931"/>
                  </a:cubicBezTo>
                  <a:cubicBezTo>
                    <a:pt x="2805363" y="350921"/>
                    <a:pt x="2913647" y="150394"/>
                    <a:pt x="2983831" y="138363"/>
                  </a:cubicBezTo>
                  <a:cubicBezTo>
                    <a:pt x="3054015" y="126332"/>
                    <a:pt x="3114174" y="260684"/>
                    <a:pt x="3140242" y="282742"/>
                  </a:cubicBezTo>
                  <a:cubicBezTo>
                    <a:pt x="3166311" y="304800"/>
                    <a:pt x="3153276" y="287755"/>
                    <a:pt x="3140242" y="270710"/>
                  </a:cubicBezTo>
                </a:path>
              </a:pathLst>
            </a:custGeom>
            <a:noFill/>
            <a:ln w="9360">
              <a:solidFill>
                <a:srgbClr val="1025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0" name="Straight Arrow Connector 7"/>
            <p:cNvCxnSpPr/>
            <p:nvPr/>
          </p:nvCxnSpPr>
          <p:spPr>
            <a:xfrm flipV="1">
              <a:off x="7463160" y="2863440"/>
              <a:ext cx="854640" cy="2559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591" name="Straight Arrow Connector 8"/>
            <p:cNvCxnSpPr/>
            <p:nvPr/>
          </p:nvCxnSpPr>
          <p:spPr>
            <a:xfrm flipV="1">
              <a:off x="7129800" y="3450240"/>
              <a:ext cx="1000800" cy="2070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592" name="Straight Connector 9"/>
            <p:cNvSpPr/>
            <p:nvPr/>
          </p:nvSpPr>
          <p:spPr>
            <a:xfrm flipV="1">
              <a:off x="6216840" y="3024000"/>
              <a:ext cx="1138320" cy="1835280"/>
            </a:xfrm>
            <a:prstGeom prst="line">
              <a:avLst/>
            </a:prstGeom>
            <a:ln w="93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Straight Connector 10"/>
            <p:cNvSpPr/>
            <p:nvPr/>
          </p:nvSpPr>
          <p:spPr>
            <a:xfrm flipV="1">
              <a:off x="6461280" y="3824280"/>
              <a:ext cx="738000" cy="1117440"/>
            </a:xfrm>
            <a:prstGeom prst="line">
              <a:avLst/>
            </a:prstGeom>
            <a:ln w="93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Straight Connector 11"/>
            <p:cNvSpPr/>
            <p:nvPr/>
          </p:nvSpPr>
          <p:spPr>
            <a:xfrm flipV="1">
              <a:off x="6549480" y="3906360"/>
              <a:ext cx="718920" cy="1158840"/>
            </a:xfrm>
            <a:prstGeom prst="line">
              <a:avLst/>
            </a:prstGeom>
            <a:ln w="93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Straight Connector 12"/>
            <p:cNvSpPr/>
            <p:nvPr/>
          </p:nvSpPr>
          <p:spPr>
            <a:xfrm flipV="1">
              <a:off x="7263000" y="3698640"/>
              <a:ext cx="938160" cy="204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Straight Connector 13"/>
            <p:cNvSpPr/>
            <p:nvPr/>
          </p:nvSpPr>
          <p:spPr>
            <a:xfrm flipV="1">
              <a:off x="7182000" y="3595680"/>
              <a:ext cx="982800" cy="233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Straight Connector 14"/>
            <p:cNvSpPr/>
            <p:nvPr/>
          </p:nvSpPr>
          <p:spPr>
            <a:xfrm flipV="1">
              <a:off x="7355160" y="2747520"/>
              <a:ext cx="914400" cy="2761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Straight Connector 15"/>
            <p:cNvSpPr/>
            <p:nvPr/>
          </p:nvSpPr>
          <p:spPr>
            <a:xfrm flipV="1">
              <a:off x="7135920" y="3108240"/>
              <a:ext cx="328320" cy="550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Oval 16"/>
          <p:cNvSpPr/>
          <p:nvPr/>
        </p:nvSpPr>
        <p:spPr>
          <a:xfrm>
            <a:off x="7227720" y="2786040"/>
            <a:ext cx="378000" cy="566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17"/>
          <p:cNvSpPr/>
          <p:nvPr/>
        </p:nvSpPr>
        <p:spPr>
          <a:xfrm>
            <a:off x="5318640" y="5703840"/>
            <a:ext cx="2774520" cy="368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form factor falls with 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alatino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18"/>
          <p:cNvGrpSpPr/>
          <p:nvPr/>
        </p:nvGrpSpPr>
        <p:grpSpPr>
          <a:xfrm>
            <a:off x="349200" y="1608120"/>
            <a:ext cx="3962520" cy="4038480"/>
            <a:chOff x="349200" y="1608120"/>
            <a:chExt cx="3962520" cy="4038480"/>
          </a:xfrm>
        </p:grpSpPr>
        <p:sp>
          <p:nvSpPr>
            <p:cNvPr id="602" name="Freeform 19"/>
            <p:cNvSpPr/>
            <p:nvPr/>
          </p:nvSpPr>
          <p:spPr>
            <a:xfrm>
              <a:off x="425160" y="3368520"/>
              <a:ext cx="1665360" cy="522000"/>
            </a:xfrm>
            <a:custGeom>
              <a:avLst/>
              <a:gdLst/>
              <a:ahLst/>
              <a:rect l="l" t="t" r="r" b="b"/>
              <a:pathLst>
                <a:path w="3166311" h="483268">
                  <a:moveTo>
                    <a:pt x="0" y="162426"/>
                  </a:moveTo>
                  <a:cubicBezTo>
                    <a:pt x="103271" y="81213"/>
                    <a:pt x="206542" y="0"/>
                    <a:pt x="324852" y="42110"/>
                  </a:cubicBezTo>
                  <a:cubicBezTo>
                    <a:pt x="443162" y="84220"/>
                    <a:pt x="591552" y="407068"/>
                    <a:pt x="709863" y="415089"/>
                  </a:cubicBezTo>
                  <a:cubicBezTo>
                    <a:pt x="828174" y="423110"/>
                    <a:pt x="922421" y="80211"/>
                    <a:pt x="1034716" y="90237"/>
                  </a:cubicBezTo>
                  <a:cubicBezTo>
                    <a:pt x="1147011" y="100263"/>
                    <a:pt x="1263315" y="467226"/>
                    <a:pt x="1383631" y="475247"/>
                  </a:cubicBezTo>
                  <a:cubicBezTo>
                    <a:pt x="1503947" y="483268"/>
                    <a:pt x="1626268" y="148389"/>
                    <a:pt x="1756610" y="138363"/>
                  </a:cubicBezTo>
                  <a:cubicBezTo>
                    <a:pt x="1886952" y="128337"/>
                    <a:pt x="2047374" y="411079"/>
                    <a:pt x="2165684" y="415089"/>
                  </a:cubicBezTo>
                  <a:cubicBezTo>
                    <a:pt x="2283995" y="419100"/>
                    <a:pt x="2374231" y="172452"/>
                    <a:pt x="2466473" y="162426"/>
                  </a:cubicBezTo>
                  <a:cubicBezTo>
                    <a:pt x="2558715" y="152400"/>
                    <a:pt x="2632911" y="358942"/>
                    <a:pt x="2719137" y="354931"/>
                  </a:cubicBezTo>
                  <a:cubicBezTo>
                    <a:pt x="2805363" y="350921"/>
                    <a:pt x="2913647" y="150394"/>
                    <a:pt x="2983831" y="138363"/>
                  </a:cubicBezTo>
                  <a:cubicBezTo>
                    <a:pt x="3054015" y="126332"/>
                    <a:pt x="3114174" y="260684"/>
                    <a:pt x="3140242" y="282742"/>
                  </a:cubicBezTo>
                  <a:cubicBezTo>
                    <a:pt x="3166311" y="304800"/>
                    <a:pt x="3153276" y="287755"/>
                    <a:pt x="3140242" y="270710"/>
                  </a:cubicBezTo>
                </a:path>
              </a:pathLst>
            </a:custGeom>
            <a:noFill/>
            <a:ln w="9360">
              <a:solidFill>
                <a:srgbClr val="1025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3" name="Straight Arrow Connector 20"/>
            <p:cNvCxnSpPr/>
            <p:nvPr/>
          </p:nvCxnSpPr>
          <p:spPr>
            <a:xfrm flipV="1">
              <a:off x="2575080" y="2826360"/>
              <a:ext cx="381600" cy="9910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604" name="Straight Arrow Connector 21"/>
            <p:cNvCxnSpPr/>
            <p:nvPr/>
          </p:nvCxnSpPr>
          <p:spPr>
            <a:xfrm>
              <a:off x="2575080" y="3817800"/>
              <a:ext cx="442080" cy="4579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arrow" w="med"/>
            </a:ln>
          </p:spPr>
        </p:cxnSp>
        <p:grpSp>
          <p:nvGrpSpPr>
            <p:cNvPr id="605" name="Group 35"/>
            <p:cNvGrpSpPr/>
            <p:nvPr/>
          </p:nvGrpSpPr>
          <p:grpSpPr>
            <a:xfrm>
              <a:off x="3014640" y="4199040"/>
              <a:ext cx="1180080" cy="703800"/>
              <a:chOff x="3014640" y="4199040"/>
              <a:chExt cx="1180080" cy="703800"/>
            </a:xfrm>
          </p:grpSpPr>
          <p:grpSp>
            <p:nvGrpSpPr>
              <p:cNvPr id="606" name="Group 29"/>
              <p:cNvGrpSpPr/>
              <p:nvPr/>
            </p:nvGrpSpPr>
            <p:grpSpPr>
              <a:xfrm>
                <a:off x="3014640" y="4199040"/>
                <a:ext cx="342360" cy="703800"/>
                <a:chOff x="3014640" y="4199040"/>
                <a:chExt cx="342360" cy="703800"/>
              </a:xfrm>
            </p:grpSpPr>
            <p:sp>
              <p:nvSpPr>
                <p:cNvPr id="607" name="TextBox 17"/>
                <p:cNvSpPr/>
                <p:nvPr/>
              </p:nvSpPr>
              <p:spPr>
                <a:xfrm>
                  <a:off x="3014640" y="4199040"/>
                  <a:ext cx="342360" cy="70380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Palatino"/>
                    </a:rPr>
                    <a:t>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Palatino"/>
                    </a:rPr>
                    <a:t>u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Straight Connector 37"/>
                <p:cNvSpPr/>
                <p:nvPr/>
              </p:nvSpPr>
              <p:spPr>
                <a:xfrm>
                  <a:off x="3087720" y="4281480"/>
                  <a:ext cx="141120" cy="1440"/>
                </a:xfrm>
                <a:prstGeom prst="line">
                  <a:avLst/>
                </a:prstGeom>
                <a:ln w="38160">
                  <a:solidFill>
                    <a:srgbClr val="1025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9" name="TextBox 34"/>
              <p:cNvSpPr/>
              <p:nvPr/>
            </p:nvSpPr>
            <p:spPr>
              <a:xfrm>
                <a:off x="3747240" y="4281120"/>
                <a:ext cx="44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Palatino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ight Brace 35"/>
              <p:cNvSpPr/>
              <p:nvPr/>
            </p:nvSpPr>
            <p:spPr>
              <a:xfrm>
                <a:off x="3440160" y="4281480"/>
                <a:ext cx="142920" cy="574560"/>
              </a:xfrm>
              <a:custGeom>
                <a:avLst/>
                <a:gdLst>
                  <a:gd name="textAreaLeft" fmla="*/ 0 w 142920"/>
                  <a:gd name="textAreaRight" fmla="*/ 51480 w 142920"/>
                  <a:gd name="textAreaTop" fmla="*/ 3600 h 574560"/>
                  <a:gd name="textAreaBottom" fmla="*/ 570960 h 57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224"/>
                      <a:pt x="10800" y="447"/>
                    </a:cubicBezTo>
                    <a:lnTo>
                      <a:pt x="10800" y="10353"/>
                    </a:lnTo>
                    <a:cubicBezTo>
                      <a:pt x="10800" y="10577"/>
                      <a:pt x="16200" y="10800"/>
                      <a:pt x="21600" y="10800"/>
                    </a:cubicBezTo>
                    <a:cubicBezTo>
                      <a:pt x="16200" y="10800"/>
                      <a:pt x="10800" y="11024"/>
                      <a:pt x="10800" y="11247"/>
                    </a:cubicBezTo>
                    <a:lnTo>
                      <a:pt x="10800" y="21153"/>
                    </a:lnTo>
                    <a:cubicBezTo>
                      <a:pt x="10800" y="21377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1025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TextBox 23"/>
            <p:cNvSpPr/>
            <p:nvPr/>
          </p:nvSpPr>
          <p:spPr>
            <a:xfrm>
              <a:off x="3559680" y="1836720"/>
              <a:ext cx="37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Palatino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2" name="Group 43"/>
            <p:cNvGrpSpPr/>
            <p:nvPr/>
          </p:nvGrpSpPr>
          <p:grpSpPr>
            <a:xfrm>
              <a:off x="2643840" y="1954800"/>
              <a:ext cx="895680" cy="961560"/>
              <a:chOff x="2643840" y="1954800"/>
              <a:chExt cx="895680" cy="961560"/>
            </a:xfrm>
          </p:grpSpPr>
          <p:sp>
            <p:nvSpPr>
              <p:cNvPr id="613" name="TextBox 31"/>
              <p:cNvSpPr/>
              <p:nvPr/>
            </p:nvSpPr>
            <p:spPr>
              <a:xfrm rot="19897200">
                <a:off x="2841840" y="1977120"/>
                <a:ext cx="3254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Palatino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Palatino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Palatino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Right Brace 32"/>
              <p:cNvSpPr/>
              <p:nvPr/>
            </p:nvSpPr>
            <p:spPr>
              <a:xfrm rot="19897200">
                <a:off x="3268440" y="2047320"/>
                <a:ext cx="141840" cy="577800"/>
              </a:xfrm>
              <a:custGeom>
                <a:avLst/>
                <a:gdLst>
                  <a:gd name="textAreaLeft" fmla="*/ 0 w 141840"/>
                  <a:gd name="textAreaRight" fmla="*/ 51120 w 141840"/>
                  <a:gd name="textAreaTop" fmla="*/ 3600 h 577800"/>
                  <a:gd name="textAreaBottom" fmla="*/ 574200 h 57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220"/>
                      <a:pt x="10800" y="440"/>
                    </a:cubicBezTo>
                    <a:lnTo>
                      <a:pt x="10800" y="10360"/>
                    </a:lnTo>
                    <a:cubicBezTo>
                      <a:pt x="10800" y="10580"/>
                      <a:pt x="16200" y="10800"/>
                      <a:pt x="21600" y="10800"/>
                    </a:cubicBezTo>
                    <a:cubicBezTo>
                      <a:pt x="16200" y="10800"/>
                      <a:pt x="10800" y="11020"/>
                      <a:pt x="10800" y="11240"/>
                    </a:cubicBezTo>
                    <a:lnTo>
                      <a:pt x="10800" y="21160"/>
                    </a:lnTo>
                    <a:cubicBezTo>
                      <a:pt x="10800" y="2138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1025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5" name="Straight Connector 25"/>
            <p:cNvSpPr/>
            <p:nvPr/>
          </p:nvSpPr>
          <p:spPr>
            <a:xfrm flipV="1">
              <a:off x="1508040" y="3673440"/>
              <a:ext cx="568080" cy="1363680"/>
            </a:xfrm>
            <a:prstGeom prst="line">
              <a:avLst/>
            </a:prstGeom>
            <a:ln w="93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Straight Connector 26"/>
            <p:cNvSpPr/>
            <p:nvPr/>
          </p:nvSpPr>
          <p:spPr>
            <a:xfrm>
              <a:off x="2076480" y="3660840"/>
              <a:ext cx="863640" cy="842760"/>
            </a:xfrm>
            <a:prstGeom prst="line">
              <a:avLst/>
            </a:prstGeom>
            <a:ln w="93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Straight Connector 27"/>
            <p:cNvSpPr/>
            <p:nvPr/>
          </p:nvSpPr>
          <p:spPr>
            <a:xfrm flipV="1">
              <a:off x="1659600" y="2522160"/>
              <a:ext cx="1066680" cy="2590920"/>
            </a:xfrm>
            <a:prstGeom prst="line">
              <a:avLst/>
            </a:prstGeom>
            <a:ln w="93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Straight Connector 28"/>
            <p:cNvSpPr/>
            <p:nvPr/>
          </p:nvSpPr>
          <p:spPr>
            <a:xfrm flipV="1">
              <a:off x="1735920" y="2750760"/>
              <a:ext cx="1066680" cy="2438280"/>
            </a:xfrm>
            <a:prstGeom prst="line">
              <a:avLst/>
            </a:prstGeom>
            <a:ln w="93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ounded Rectangle 29"/>
            <p:cNvSpPr/>
            <p:nvPr/>
          </p:nvSpPr>
          <p:spPr>
            <a:xfrm>
              <a:off x="349200" y="1608120"/>
              <a:ext cx="3962520" cy="4038480"/>
            </a:xfrm>
            <a:custGeom>
              <a:avLst/>
              <a:gdLst>
                <a:gd name="textAreaLeft" fmla="*/ 193320 w 3962520"/>
                <a:gd name="textAreaRight" fmla="*/ 3769200 w 3962520"/>
                <a:gd name="textAreaTop" fmla="*/ 193320 h 4038480"/>
                <a:gd name="textAreaBottom" fmla="*/ 3845160 h 4038480"/>
              </a:gdLst>
              <a:ahLst/>
              <a:rect l="textAreaLeft" t="textAreaTop" r="textAreaRight" b="textAreaBottom"/>
              <a:pathLst>
                <a:path w="21600" h="22014">
                  <a:moveTo>
                    <a:pt x="3600" y="0"/>
                  </a:moveTo>
                  <a:arcTo wR="3600" hR="3600" stAng="16200000" swAng="-5400000"/>
                  <a:lnTo>
                    <a:pt x="0" y="18414"/>
                  </a:lnTo>
                  <a:arcTo wR="3600" hR="3600" stAng="10800000" swAng="-5400000"/>
                  <a:lnTo>
                    <a:pt x="18000" y="220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1025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Box 30"/>
            <p:cNvSpPr/>
            <p:nvPr/>
          </p:nvSpPr>
          <p:spPr>
            <a:xfrm>
              <a:off x="536400" y="2217600"/>
              <a:ext cx="1846440" cy="6426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alatino"/>
                </a:rPr>
                <a:t>photon coup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alatino"/>
                </a:rPr>
                <a:t>to qua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Rounded Rectangle 38"/>
          <p:cNvSpPr/>
          <p:nvPr/>
        </p:nvSpPr>
        <p:spPr>
          <a:xfrm>
            <a:off x="4761000" y="1650960"/>
            <a:ext cx="3962160" cy="4038480"/>
          </a:xfrm>
          <a:custGeom>
            <a:avLst/>
            <a:gdLst>
              <a:gd name="textAreaLeft" fmla="*/ 193320 w 3962160"/>
              <a:gd name="textAreaRight" fmla="*/ 3768840 w 3962160"/>
              <a:gd name="textAreaTop" fmla="*/ 193320 h 4038480"/>
              <a:gd name="textAreaBottom" fmla="*/ 3845160 h 4038480"/>
            </a:gdLst>
            <a:ahLst/>
            <a:rect l="textAreaLeft" t="textAreaTop" r="textAreaRight" b="textAreaBottom"/>
            <a:pathLst>
              <a:path w="21600" h="22016">
                <a:moveTo>
                  <a:pt x="3600" y="0"/>
                </a:moveTo>
                <a:arcTo wR="3600" hR="3600" stAng="16200000" swAng="-5400000"/>
                <a:lnTo>
                  <a:pt x="0" y="18416"/>
                </a:lnTo>
                <a:arcTo wR="3600" hR="3600" stAng="10800000" swAng="-5400000"/>
                <a:lnTo>
                  <a:pt x="18000" y="220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39"/>
          <p:cNvSpPr/>
          <p:nvPr/>
        </p:nvSpPr>
        <p:spPr>
          <a:xfrm>
            <a:off x="5160240" y="1857240"/>
            <a:ext cx="196848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photon pro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mes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40"/>
          <p:cNvSpPr/>
          <p:nvPr/>
        </p:nvSpPr>
        <p:spPr>
          <a:xfrm>
            <a:off x="1704960" y="3505320"/>
            <a:ext cx="378000" cy="566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41"/>
          <p:cNvSpPr/>
          <p:nvPr/>
        </p:nvSpPr>
        <p:spPr>
          <a:xfrm>
            <a:off x="676800" y="5661000"/>
            <a:ext cx="3550320" cy="3682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no form factor: 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Palatino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in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42"/>
          <p:cNvSpPr/>
          <p:nvPr/>
        </p:nvSpPr>
        <p:spPr>
          <a:xfrm>
            <a:off x="1072800" y="1015920"/>
            <a:ext cx="2894760" cy="5101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alatino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 DIS via LUND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44"/>
          <p:cNvSpPr/>
          <p:nvPr/>
        </p:nvSpPr>
        <p:spPr>
          <a:xfrm>
            <a:off x="5180760" y="1015920"/>
            <a:ext cx="2800440" cy="5101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alatino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 t-channel ex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Date Placeholder 43"/>
          <p:cNvSpPr/>
          <p:nvPr/>
        </p:nvSpPr>
        <p:spPr>
          <a:xfrm>
            <a:off x="428760" y="62974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Sept. 26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lide Number Placeholder 45"/>
          <p:cNvSpPr/>
          <p:nvPr/>
        </p:nvSpPr>
        <p:spPr>
          <a:xfrm>
            <a:off x="6524640" y="6297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Mac Mestayer </a:t>
            </a:r>
            <a:fld id="{16CA59C7-17C9-4E95-A0A5-09C1BEB9C55E}" type="slidenum">
              <a:rPr b="0" lang="en-US" sz="1200" spc="-1" strike="noStrike">
                <a:solidFill>
                  <a:srgbClr val="898989"/>
                </a:solidFill>
                <a:latin typeface="Palatin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ooter Placeholder 46"/>
          <p:cNvSpPr/>
          <p:nvPr/>
        </p:nvSpPr>
        <p:spPr>
          <a:xfrm>
            <a:off x="3095640" y="629748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Hadron Spectroscopy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335240" y="274320"/>
            <a:ext cx="616896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Analysis goals and plans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Model-independent goa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measure </a:t>
            </a:r>
            <a:r>
              <a:rPr b="0" lang="en-US" sz="2400" spc="-1" strike="noStrike">
                <a:solidFill>
                  <a:srgbClr val="ff0000"/>
                </a:solidFill>
                <a:latin typeface="Palatino Linotype"/>
              </a:rPr>
              <a:t>ratio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n 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alatino Linotype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  : 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alatino Linotype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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ross-section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roportional to    uu :  dd  :  ss    rate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xtend Kaskulov, Gallmeister, Mosel mod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extend to dd and ss production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nalysis plan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dentify final states (done)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ecide on binning ( high/low bins for W,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alatino Linotyp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, t )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une PYTHIA/JETSET (fitting and MC generator)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Study single quark-pair creation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2" name="Straight Connector 3"/>
          <p:cNvSpPr/>
          <p:nvPr/>
        </p:nvSpPr>
        <p:spPr>
          <a:xfrm flipV="1">
            <a:off x="3819600" y="2482920"/>
            <a:ext cx="128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traight Connector 4"/>
          <p:cNvSpPr/>
          <p:nvPr/>
        </p:nvSpPr>
        <p:spPr>
          <a:xfrm flipV="1">
            <a:off x="4479840" y="2482920"/>
            <a:ext cx="128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traight Connector 5"/>
          <p:cNvSpPr/>
          <p:nvPr/>
        </p:nvSpPr>
        <p:spPr>
          <a:xfrm flipV="1">
            <a:off x="5154480" y="2482920"/>
            <a:ext cx="1303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Sept. 26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Mac Mestayer </a:t>
            </a:r>
            <a:fld id="{DCADA92F-3CD3-456D-8314-738361BAFA6C}" type="slidenum">
              <a:rPr b="0" lang="en-US" sz="1200" spc="-1" strike="noStrike">
                <a:solidFill>
                  <a:srgbClr val="898989"/>
                </a:solidFill>
                <a:latin typeface="Palatin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Hadron Spectroscopy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"/>
          <p:cNvPicPr/>
          <p:nvPr/>
        </p:nvPicPr>
        <p:blipFill>
          <a:blip r:embed="rId1"/>
          <a:stretch/>
        </p:blipFill>
        <p:spPr>
          <a:xfrm>
            <a:off x="2671920" y="0"/>
            <a:ext cx="6411600" cy="6858000"/>
          </a:xfrm>
          <a:prstGeom prst="rect">
            <a:avLst/>
          </a:prstGeom>
          <a:ln w="0">
            <a:noFill/>
          </a:ln>
        </p:spPr>
      </p:pic>
      <p:sp>
        <p:nvSpPr>
          <p:cNvPr id="639" name="TextBox 4"/>
          <p:cNvSpPr/>
          <p:nvPr/>
        </p:nvSpPr>
        <p:spPr>
          <a:xfrm>
            <a:off x="888480" y="1596960"/>
            <a:ext cx="144252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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alatino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Wingdings 3"/>
                <a:ea typeface="Wingdings 3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eft Brace 18"/>
          <p:cNvSpPr/>
          <p:nvPr/>
        </p:nvSpPr>
        <p:spPr>
          <a:xfrm>
            <a:off x="2133720" y="2728800"/>
            <a:ext cx="550800" cy="2424240"/>
          </a:xfrm>
          <a:custGeom>
            <a:avLst/>
            <a:gdLst>
              <a:gd name="textAreaLeft" fmla="*/ 352080 w 550800"/>
              <a:gd name="textAreaRight" fmla="*/ 551160 w 550800"/>
              <a:gd name="textAreaTop" fmla="*/ 14040 h 2424240"/>
              <a:gd name="textAreaBottom" fmla="*/ 2410200 h 24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5"/>
                  <a:pt x="10800" y="409"/>
                </a:cubicBezTo>
                <a:lnTo>
                  <a:pt x="10800" y="10391"/>
                </a:lnTo>
                <a:cubicBezTo>
                  <a:pt x="10800" y="10596"/>
                  <a:pt x="5400" y="10800"/>
                  <a:pt x="0" y="10800"/>
                </a:cubicBezTo>
                <a:cubicBezTo>
                  <a:pt x="5400" y="10800"/>
                  <a:pt x="10800" y="11005"/>
                  <a:pt x="10800" y="11209"/>
                </a:cubicBezTo>
                <a:lnTo>
                  <a:pt x="10800" y="21191"/>
                </a:lnTo>
                <a:cubicBezTo>
                  <a:pt x="10800" y="2139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19"/>
          <p:cNvSpPr/>
          <p:nvPr/>
        </p:nvSpPr>
        <p:spPr>
          <a:xfrm>
            <a:off x="153360" y="2336760"/>
            <a:ext cx="19288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ake”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20"/>
          <p:cNvSpPr/>
          <p:nvPr/>
        </p:nvSpPr>
        <p:spPr>
          <a:xfrm>
            <a:off x="270000" y="3033720"/>
            <a:ext cx="1695600" cy="642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mis-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pro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21"/>
          <p:cNvSpPr/>
          <p:nvPr/>
        </p:nvSpPr>
        <p:spPr>
          <a:xfrm>
            <a:off x="270000" y="4295880"/>
            <a:ext cx="1695600" cy="642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mis-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p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22"/>
          <p:cNvSpPr/>
          <p:nvPr/>
        </p:nvSpPr>
        <p:spPr>
          <a:xfrm>
            <a:off x="234000" y="484200"/>
            <a:ext cx="2502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alatino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Missing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5"/>
          <p:cNvSpPr/>
          <p:nvPr/>
        </p:nvSpPr>
        <p:spPr>
          <a:xfrm>
            <a:off x="2786040" y="2641680"/>
            <a:ext cx="5618160" cy="264168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Date Placeholder 1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Sept. 26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1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E150-3659-4370-BBEA-3C9BFE279C45}" type="slidenum">
              <a:rPr b="0" lang="en-US" sz="1200" spc="-1" strike="noStrike">
                <a:solidFill>
                  <a:srgbClr val="898989"/>
                </a:solidFill>
                <a:latin typeface="Palatin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ooter Placeholder 1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Hadron Spectroscopy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24"/>
          <p:cNvSpPr/>
          <p:nvPr/>
        </p:nvSpPr>
        <p:spPr>
          <a:xfrm>
            <a:off x="3222720" y="5805360"/>
            <a:ext cx="537048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forward       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  Lab Angle   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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back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2" descr=""/>
          <p:cNvPicPr/>
          <p:nvPr/>
        </p:nvPicPr>
        <p:blipFill>
          <a:blip r:embed="rId1"/>
          <a:stretch/>
        </p:blipFill>
        <p:spPr>
          <a:xfrm>
            <a:off x="3084480" y="0"/>
            <a:ext cx="5705640" cy="6858000"/>
          </a:xfrm>
          <a:prstGeom prst="rect">
            <a:avLst/>
          </a:prstGeom>
          <a:ln w="0">
            <a:noFill/>
          </a:ln>
        </p:spPr>
      </p:pic>
      <p:sp>
        <p:nvSpPr>
          <p:cNvPr id="651" name="TextBox 9"/>
          <p:cNvSpPr/>
          <p:nvPr/>
        </p:nvSpPr>
        <p:spPr>
          <a:xfrm>
            <a:off x="1510920" y="4064040"/>
            <a:ext cx="130680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alatino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alatino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Wingdings 3"/>
                <a:ea typeface="Wingdings 3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10"/>
          <p:cNvSpPr/>
          <p:nvPr/>
        </p:nvSpPr>
        <p:spPr>
          <a:xfrm>
            <a:off x="1465920" y="2104920"/>
            <a:ext cx="13618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(n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alatino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Wingdings 3"/>
                <a:ea typeface="Wingdings 3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24"/>
          <p:cNvSpPr/>
          <p:nvPr/>
        </p:nvSpPr>
        <p:spPr>
          <a:xfrm>
            <a:off x="3222720" y="5805360"/>
            <a:ext cx="537048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forward       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  Lab Angle   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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back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25"/>
          <p:cNvSpPr/>
          <p:nvPr/>
        </p:nvSpPr>
        <p:spPr>
          <a:xfrm>
            <a:off x="311040" y="963720"/>
            <a:ext cx="278928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issing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3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2-body final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Date Placeholder 1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Sept. 26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Mac Mestayer </a:t>
            </a:r>
            <a:fld id="{782F66ED-DEC7-4EB8-89C8-6C8FF04D02AD}" type="slidenum">
              <a:rPr b="0" lang="en-US" sz="1200" spc="-1" strike="noStrike">
                <a:solidFill>
                  <a:srgbClr val="898989"/>
                </a:solidFill>
                <a:latin typeface="Palatin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ooter Placeholder 2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Hadron Spectroscopy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2" descr=""/>
          <p:cNvPicPr/>
          <p:nvPr/>
        </p:nvPicPr>
        <p:blipFill>
          <a:blip r:embed="rId1"/>
          <a:stretch/>
        </p:blipFill>
        <p:spPr>
          <a:xfrm>
            <a:off x="1714680" y="5716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659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Sept. 26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Mac Mestayer </a:t>
            </a:r>
            <a:fld id="{67A4AC8F-A7A7-4499-AB95-F20EA2C49504}" type="slidenum">
              <a:rPr b="0" lang="en-US" sz="1200" spc="-1" strike="noStrike">
                <a:solidFill>
                  <a:srgbClr val="898989"/>
                </a:solidFill>
                <a:latin typeface="Palatin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Palatino"/>
              </a:rPr>
              <a:t>Hadron Spectroscopy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15:19:50Z</dcterms:created>
  <dc:creator>bangdm</dc:creator>
  <dc:description/>
  <dc:language>en-US</dc:language>
  <cp:lastModifiedBy>Myung Bang</cp:lastModifiedBy>
  <dcterms:modified xsi:type="dcterms:W3CDTF">2009-09-25T19:18:28Z</dcterms:modified>
  <cp:revision>103</cp:revision>
  <dc:subject/>
  <dc:title>Quark-pair Creation</dc:title>
</cp:coreProperties>
</file>