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05720" indent="-3042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7520" indent="-20268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3600" indent="-2030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29320" indent="-20268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29320" indent="-20268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29320" indent="-20268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ROST: Status of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 -&gt; K</a:t>
            </a:r>
            <a:r>
              <a:rPr b="0" lang="en-GB" sz="4400" spc="-1" strike="noStrike" baseline="33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iam Cas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tholic University of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viser: Dr. Franz Kl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1880" y="333360"/>
            <a:ext cx="892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arization Observable E: More Energy ranges (2.478 GeV B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766800"/>
            <a:ext cx="5086440" cy="3279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1920" y="4056120"/>
            <a:ext cx="5014800" cy="3505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135400" y="785880"/>
            <a:ext cx="4945320" cy="3260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086440" y="4035600"/>
            <a:ext cx="4994280" cy="35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lusions and Further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results are extremely preliminary, but first measurements of E indicate some qualitative agreement with SAID PWA in more trustworthy regions (those not dominated by heavy backgroun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loss corrections need to be added without losing all the lamb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kground 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ments of other polarization observ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rticle Iden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843520" y="2047680"/>
            <a:ext cx="3508560" cy="48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ons, pions, and kaons are identified by beta and momentum cu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aon region may overlap with misidentified protons and p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d timing information may also give false kaon identification at low moment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4720" y="2111400"/>
            <a:ext cx="5318280" cy="38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ssing Mass Plots: Finding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73120" y="4379760"/>
            <a:ext cx="4325760" cy="2679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4680" y="1700280"/>
            <a:ext cx="4316400" cy="26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31428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ssing Mass Plots: Finding </a:t>
            </a:r>
            <a:r>
              <a:rPr b="0" lang="en-GB" sz="44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4840" y="1473120"/>
            <a:ext cx="4238280" cy="2886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46600" y="1473120"/>
            <a:ext cx="4316400" cy="2887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14440" y="4419720"/>
            <a:ext cx="4227480" cy="2867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757760" y="4389480"/>
            <a:ext cx="434664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7760" y="4241880"/>
            <a:ext cx="4959360" cy="3220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95800" y="893880"/>
            <a:ext cx="4984920" cy="3211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874800"/>
            <a:ext cx="5048280" cy="3259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72960" y="196920"/>
            <a:ext cx="916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mentum plotted against Missing Mass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13520" y="4408560"/>
            <a:ext cx="4625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 the lower energy regions, a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gnal is visible when missing mass is plott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re is additionally a peculiar sloping line passing through the signal region, which most likely indicates misidentified ka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7600" y="196920"/>
            <a:ext cx="949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mentum plotted against Missing Mass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668160"/>
            <a:ext cx="4987800" cy="3141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74840" y="2101680"/>
            <a:ext cx="2101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828960"/>
            <a:ext cx="4978440" cy="3575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002200" y="706320"/>
            <a:ext cx="4748400" cy="311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1452600" y="3603600"/>
            <a:ext cx="37814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54280" y="1424160"/>
            <a:ext cx="18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41720" y="4811760"/>
            <a:ext cx="1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7520" y="1492200"/>
            <a:ext cx="1679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95440" y="3298680"/>
            <a:ext cx="108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295200" y="1020600"/>
            <a:ext cx="20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4213080"/>
            <a:ext cx="453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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gnal fades for higher photon energies, while the sloping line rema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520560"/>
            <a:ext cx="5076720" cy="3427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86440" y="500040"/>
            <a:ext cx="4929120" cy="3476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116680" y="4065480"/>
            <a:ext cx="4964040" cy="3494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4084560"/>
            <a:ext cx="5067360" cy="3436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98280"/>
            <a:ext cx="9466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sidentified Kaon: Plot particle identified as Kaon with Proton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619200"/>
            <a:ext cx="5095800" cy="3378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126040" y="609480"/>
            <a:ext cx="4954680" cy="3367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4006800"/>
            <a:ext cx="5072040" cy="3552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5119560" y="4006800"/>
            <a:ext cx="4959360" cy="3554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138240"/>
            <a:ext cx="9593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sidentified Kaon: Plot particle identified as Kaon with Pion 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235400" y="192240"/>
            <a:ext cx="5715000" cy="4755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7600" y="1266840"/>
            <a:ext cx="4808520" cy="3425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400" y="295200"/>
            <a:ext cx="991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arization Observable E: Comparison to Model Predictions (2.478 GeV B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8040" y="5273640"/>
            <a:ext cx="895500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ppears to show some level of agreement with SAID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igher cos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ins are more suspect due to high background contamin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 full asymmetry, P</a:t>
            </a:r>
            <a:r>
              <a:rPr b="0" lang="en-GB" sz="1800" spc="-1" strike="noStrike" baseline="-33000">
                <a:solidFill>
                  <a:srgbClr val="000000"/>
                </a:solidFill>
                <a:latin typeface="Times New Roman"/>
              </a:rPr>
              <a:t>targ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~ 0.8, P</a:t>
            </a:r>
            <a:r>
              <a:rPr b="0" lang="en-GB" sz="1800" spc="-1" strike="noStrike" baseline="-33000">
                <a:solidFill>
                  <a:srgbClr val="000000"/>
                </a:solidFill>
                <a:latin typeface="Times New Roman"/>
              </a:rPr>
              <a:t>el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~ 0.85 are taken as averag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